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13378-AB93-4946-BD09-DE6FCB66EB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807B5-A088-41F7-9F91-0E14B43A4B0C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23155-954C-44C7-B782-315CAF354FA2}" type="slidenum">
              <a:rPr b="0" lang="fr-F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76A-0722-46A2-9813-AD76FE71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25A-46BB-49C7-B9F3-B254A56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108-2CFE-4D17-AE7E-A59F0C4E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A34-81CA-4BF5-9B8B-D1982DFE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A0B-3649-4386-9A7B-6EA212A3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6E3-8B5F-4B61-BDC9-77B0ED50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4A55-007E-4535-A06E-4F5DA312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0F5B-F281-4C1E-8A6E-70048864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58B8-8FB2-4F3D-BC51-CCF218B9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D53D-A7EF-447E-AF48-C25EE622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F971-F047-46E8-B2BF-49B1B2A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BA4-76C0-4922-A9E4-D4C8BDE5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0793-4A66-42F8-B939-6A28612E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AAC5-F8DD-4EAC-B65E-E5D4A3B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4F82-7D24-47CE-935E-813BAC37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0CD0-3B63-45A8-B25A-E0E278B8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4B29-FE72-4E44-94B8-389B77B7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EA156-9197-4969-AEE5-5A92C529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154B-E42C-4544-A72A-1D989AE3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C725-D87D-421D-84B2-8D768FAD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89F6F-2EB6-4F6B-9B7B-A40C32FC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908F-5197-45BE-90ED-90F7A2F1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BE8-6FEC-4FFB-9822-A695FC05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68C29-EB6F-4294-853E-F2056D4B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1F93-E642-4726-85DF-CC8CB86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784D-18FB-4782-9A4B-720D7003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EE3BC-FDDD-4EF3-A9B9-2D20794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A2D4-E3A3-4677-9662-9AE42473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ECFE-8613-4E1F-8698-AC819DA3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D57FB-49BA-484E-B00A-A79BA0E1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9430-DCA3-4763-9E0D-AEC94B02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23911-37B6-414B-BE5C-8BC0D330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BDC57-CA07-493E-84A8-4CE0785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BFE-3EBD-44E7-8336-620A8B54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A73E-C079-4682-97CA-CE35899D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9782F-4926-4072-A7A7-91692F34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7B6D-C21D-462D-B72C-8D7A6D3D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1D422-E3CE-4F15-8059-29BA0165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5933-CF06-42FA-965A-7D30FC80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4BFA-4453-43FB-BA2A-AE44DF6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62D6C-D706-4679-A12F-429D7A1C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5D0B1-9C7F-403E-B419-C5E5A215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BFEE-CFB4-419B-9FA0-4DEB21AA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E89-06BC-421C-9067-3D2F7D24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0FA-9AED-4674-93E0-6CD52EDB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4FA2-0A2E-4E15-BED9-C19E112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BD68-A7F3-44C4-9C13-A97E072C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7B6-4B8F-49B5-969B-C4138263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5D294-D540-42DC-BBB6-A512057F68E4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D1CC2-E053-4D07-A9D4-C83C4B85E967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4FBFF-1043-4CDF-841D-92A1B35C48A4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898989"/>
                </a:solidFill>
                <a:latin typeface="Trebuchet MS"/>
              </a:rPr>
              <a:t>F.Raffy-octobre 2010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093E7-C1E0-49AD-856D-CC3C8714D112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png"/><Relationship Id="rId3" Type="http://schemas.openxmlformats.org/officeDocument/2006/relationships/hyperlink" Target="https://www.santepubliquefrance.fr/les-actualites/2017/mise-en-place-des-postes-sanitaires-mobiles-pediatriques" TargetMode="External"/><Relationship Id="rId4" Type="http://schemas.openxmlformats.org/officeDocument/2006/relationships/hyperlink" Target="https://solidarites-sante.gouv.fr/fichiers/bo/2013/13-12/ste_20130012_0000_0068.pdf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03360" y="907920"/>
            <a:ext cx="7683480" cy="1312920"/>
          </a:xfrm>
          <a:prstGeom prst="rect">
            <a:avLst/>
          </a:prstGeom>
          <a:noFill/>
          <a:ln w="9360">
            <a:solidFill>
              <a:srgbClr val="3fc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Postes Sanitaires Mobiles </a:t>
            </a:r>
            <a:br>
              <a:rPr sz="4000"/>
            </a:br>
            <a:r>
              <a:rPr b="1" lang="fr-FR" sz="4000" spc="-1" strike="noStrike">
                <a:solidFill>
                  <a:srgbClr val="2c3c43"/>
                </a:solidFill>
                <a:latin typeface="Trebuchet MS"/>
              </a:rPr>
              <a:t>I et II et Pédiatriqu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71560" y="4818240"/>
            <a:ext cx="6346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02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Espace réservé du numéro de diapositive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FE786-D3C3-4D49-BC8B-F58450CE878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Image 5" descr=""/>
          <p:cNvPicPr/>
          <p:nvPr/>
        </p:nvPicPr>
        <p:blipFill>
          <a:blip r:embed="rId1"/>
          <a:stretch/>
        </p:blipFill>
        <p:spPr>
          <a:xfrm>
            <a:off x="7790040" y="5257800"/>
            <a:ext cx="1009440" cy="8604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"/>
          <p:cNvSpPr/>
          <p:nvPr/>
        </p:nvSpPr>
        <p:spPr>
          <a:xfrm>
            <a:off x="900000" y="564048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r Françoise Raffy - Pharmacien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Image 3" descr=""/>
          <p:cNvPicPr/>
          <p:nvPr/>
        </p:nvPicPr>
        <p:blipFill>
          <a:blip r:embed="rId2"/>
          <a:stretch/>
        </p:blipFill>
        <p:spPr>
          <a:xfrm>
            <a:off x="2400480" y="2368440"/>
            <a:ext cx="326376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97528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Les malles antidote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50560" y="1909800"/>
            <a:ext cx="583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 chimique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CONTRATHION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YANOKIT, SUCCICAPTAL, ATROPINE 40mg,</a:t>
            </a:r>
            <a:br>
              <a:rPr sz="1400"/>
            </a:b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  CLONAZEPAM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dotes Risques nucléaire et radiologiqu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: iodure de potassium, RADIOGARDASE, Ca-DTPA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Antibiotique, </a:t>
            </a:r>
            <a:r>
              <a:rPr b="0" lang="fr-FR" sz="1400" spc="-1" strike="noStrike">
                <a:solidFill>
                  <a:srgbClr val="000000"/>
                </a:solidFill>
                <a:latin typeface="Trebuchet MS"/>
              </a:rPr>
              <a:t>Peste charbon tularémie</a:t>
            </a:r>
            <a:r>
              <a:rPr b="1" lang="fr-FR" sz="1400" spc="-1" strike="noStrike">
                <a:solidFill>
                  <a:srgbClr val="404040"/>
                </a:solidFill>
                <a:latin typeface="Trebuchet MS"/>
              </a:rPr>
              <a:t>: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iprofloxacine 500mg cp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 de </a:t>
            </a:r>
            <a:r>
              <a:rPr b="0" lang="fr-FR" sz="1400" spc="-1" strike="noStrike" u="sng">
                <a:solidFill>
                  <a:srgbClr val="404040"/>
                </a:solidFill>
                <a:uFillTx/>
                <a:latin typeface="Trebuchet MS"/>
              </a:rPr>
              <a:t>15 victimes </a:t>
            </a: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ar mall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 : 2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SM II : 4 malles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A81A9-67AD-4222-B995-EDC2253AEF70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6" descr="C:\Users\passemad\Desktop\ACTIVITE\Stocks_Urgences\PSM\test_nouvelle_dotation_2016\PSM A JOUR\Antidotes\ANT-1.JPG"/>
          <p:cNvPicPr/>
          <p:nvPr/>
        </p:nvPicPr>
        <p:blipFill>
          <a:blip r:embed="rId1"/>
          <a:stretch/>
        </p:blipFill>
        <p:spPr>
          <a:xfrm>
            <a:off x="5535720" y="3790800"/>
            <a:ext cx="3443040" cy="25066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1" descr=""/>
          <p:cNvPicPr/>
          <p:nvPr/>
        </p:nvPicPr>
        <p:blipFill>
          <a:blip r:embed="rId2"/>
          <a:stretch/>
        </p:blipFill>
        <p:spPr>
          <a:xfrm>
            <a:off x="4851360" y="6224760"/>
            <a:ext cx="615960" cy="566640"/>
          </a:xfrm>
          <a:prstGeom prst="rect">
            <a:avLst/>
          </a:prstGeom>
          <a:ln w="0">
            <a:noFill/>
          </a:ln>
        </p:spPr>
      </p:pic>
      <p:pic>
        <p:nvPicPr>
          <p:cNvPr id="269" name="Image 2" descr=""/>
          <p:cNvPicPr/>
          <p:nvPr/>
        </p:nvPicPr>
        <p:blipFill>
          <a:blip r:embed="rId3"/>
          <a:stretch/>
        </p:blipFill>
        <p:spPr>
          <a:xfrm>
            <a:off x="5648400" y="135900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N:\PSM\PSM1\malles antidotes PSM\CIMG2093.JPG"/>
          <p:cNvPicPr/>
          <p:nvPr/>
        </p:nvPicPr>
        <p:blipFill>
          <a:blip r:embed="rId4"/>
          <a:stretch/>
        </p:blipFill>
        <p:spPr>
          <a:xfrm>
            <a:off x="5648400" y="3808440"/>
            <a:ext cx="33922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80640" y="254160"/>
            <a:ext cx="816300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oints forts des PS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2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7076A-19E2-45FD-8734-C5E2C5DF017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468360" y="2060640"/>
            <a:ext cx="82072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inalité 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ise en charge de victimes sur le terr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nfort hospitali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Standardisatio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mposition limitée et identique pour tous les P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PSM est connu de tous les intervenants de l’aide médicale urgente, quel que soit son département d’implant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trô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spection A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iges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210 référence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Médicaments, Solutés massifs, Gaz médicaux,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Dispositifs médicaux, Instruments chirurgicaux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Traitements d’urge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Pérennité de la dotation : rotation et réinjection dans le circuit hospitalier avant péremption, changements en fonction des marchés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Gestion Informatisée : application web SIGeSS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Retrait de lots :pharmacovigilance, matériovigilance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404040"/>
                </a:solidFill>
                <a:latin typeface="Trebuchet MS"/>
              </a:rPr>
              <a:t>Collaboration étroite SAMU et Pharmacie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Un outil informatique de gestion partagé de l’information : SIGeSS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ES     ESR     ARS/Z     SPF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Suivi de la composition, des péremptions et des n° de lots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580E79-E9EA-438E-BD83-DE73841EE65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2016000" y="5516640"/>
            <a:ext cx="179640" cy="14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3"/>
          <a:stretch/>
        </p:blipFill>
        <p:spPr>
          <a:xfrm>
            <a:off x="2871720" y="5524560"/>
            <a:ext cx="179280" cy="146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"/>
          <p:cNvPicPr/>
          <p:nvPr/>
        </p:nvPicPr>
        <p:blipFill>
          <a:blip r:embed="rId4"/>
          <a:stretch/>
        </p:blipFill>
        <p:spPr>
          <a:xfrm>
            <a:off x="4035600" y="5573880"/>
            <a:ext cx="179280" cy="14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IGeSSE</a:t>
            </a: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Système Informatisé de Gestion des Situations Sanitaires Exceptionnel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Outil de gestion des stocks tactiques des établissements de santé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Base de données en ligne avec une interface graphique permettant les modifications, l’import et l’export de donnée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04B5B-A0E3-40E2-BD7C-E72592B5DDD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2120" y="1905120"/>
            <a:ext cx="816768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ise en conformité (début 2017) de la dotation après réactualisation par la commission national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Suivi des évolutions des marchés pour les références du PSM: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Suppression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Equivalents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Incidence sur le stockage en mall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360C1-00BA-4079-90F3-47C22F8AF10A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9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Ges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Inventaire complet annuel hors rotation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Contrôle réalisé conjointement avec le SAMU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Traçabilité logiciel SIGeS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Actions correctrices si nécessair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F0A81-067C-4827-B12B-AF6D7CBD257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bjectifs de SIGeS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904760"/>
            <a:ext cx="855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artager entre SPF, les ARS, les ARSZ les ES la gestion des moyens de réponse aux situations sanitaires exceptionnelles déployés dans les ES au sein des zones de défense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Obtenir aux niveaux national et zonal une visibilité sur la disponibilité des stocks tactiques et leur lieu de stockag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Réaliser des mouvements de stocks et des inventaires dans les établissements (PSM et équipements), suivre la maintenance, gérer les kits de produits…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Gérer les équipements et produits supplémentaires aux moyens tactiques mais intégrés à l’initiative de chaque établissement ou de l’ARS pour améliorer la réponse en cas de crise,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ermettre des requêtes nécessaires aux reportings aux niveaux établissement, ARS, ARSZ, Santé publique Fra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Fournir aux utilisateurs un outil sécurisé et convivial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8CFFA-3253-41DC-B4AF-7264B88876E6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Image 1" descr=""/>
          <p:cNvPicPr/>
          <p:nvPr/>
        </p:nvPicPr>
        <p:blipFill>
          <a:blip r:embed="rId1"/>
          <a:stretch/>
        </p:blipFill>
        <p:spPr>
          <a:xfrm>
            <a:off x="7451640" y="67140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6560" y="698400"/>
            <a:ext cx="8163000" cy="14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Fonctionnalités principales</a:t>
            </a:r>
            <a:br>
              <a:rPr sz="3600"/>
            </a:b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2AC77-1BEC-4739-9A12-47BA94FCC91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826920" y="220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 aux référentiels nation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bleau de bord des moye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tactiqu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estion des moyens et lots locaux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lertes et suivi des péremptions et maintenanc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Image 1" descr=""/>
          <p:cNvPicPr/>
          <p:nvPr/>
        </p:nvPicPr>
        <p:blipFill>
          <a:blip r:embed="rId1"/>
          <a:stretch/>
        </p:blipFill>
        <p:spPr>
          <a:xfrm>
            <a:off x="7451640" y="6382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0680" y="620280"/>
            <a:ext cx="8162640" cy="7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Tableau de bord des moyen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D108F-C41A-480A-A41A-424827D0B84D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rcRect l="0" t="9861" r="0" b="4456"/>
          <a:stretch/>
        </p:blipFill>
        <p:spPr>
          <a:xfrm>
            <a:off x="0" y="1557360"/>
            <a:ext cx="9144000" cy="4896000"/>
          </a:xfrm>
          <a:prstGeom prst="rect">
            <a:avLst/>
          </a:prstGeom>
          <a:ln w="0">
            <a:noFill/>
          </a:ln>
        </p:spPr>
      </p:pic>
      <p:pic>
        <p:nvPicPr>
          <p:cNvPr id="306" name="Image 1" descr=""/>
          <p:cNvPicPr/>
          <p:nvPr/>
        </p:nvPicPr>
        <p:blipFill>
          <a:blip r:embed="rId2"/>
          <a:stretch/>
        </p:blipFill>
        <p:spPr>
          <a:xfrm>
            <a:off x="7451640" y="690480"/>
            <a:ext cx="61596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816300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5fcbef"/>
                </a:solidFill>
                <a:latin typeface="Trebuchet MS"/>
              </a:rPr>
              <a:t>Gestion des moyens et des </a:t>
            </a:r>
            <a:r>
              <a:rPr b="0" lang="fr-FR" sz="4000" spc="-1" strike="noStrike">
                <a:solidFill>
                  <a:srgbClr val="236292"/>
                </a:solidFill>
                <a:latin typeface="Trebuchet MS"/>
              </a:rPr>
              <a:t>lots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8481" r="0" b="3960"/>
          <a:stretch/>
        </p:blipFill>
        <p:spPr>
          <a:xfrm>
            <a:off x="0" y="1484280"/>
            <a:ext cx="9144000" cy="4921200"/>
          </a:xfrm>
          <a:prstGeom prst="rect">
            <a:avLst/>
          </a:prstGeom>
          <a:ln w="0">
            <a:noFill/>
          </a:ln>
        </p:spPr>
      </p:pic>
      <p:sp>
        <p:nvSpPr>
          <p:cNvPr id="309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4787B-5B85-4FAD-94CE-9174CE154024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Image 1" descr=""/>
          <p:cNvPicPr/>
          <p:nvPr/>
        </p:nvPicPr>
        <p:blipFill>
          <a:blip r:embed="rId2"/>
          <a:stretch/>
        </p:blipFill>
        <p:spPr>
          <a:xfrm>
            <a:off x="7740720" y="839880"/>
            <a:ext cx="615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69600" y="380880"/>
            <a:ext cx="81630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tocks des Situations </a:t>
            </a:r>
            <a:br>
              <a:rPr sz="3600"/>
            </a:b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Sanitaires Exceptionnelles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Stratég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Etat gérés et détenus par Santé Publique France (SPF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renfort ou deuxième intentio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ns de distribution exceptionnelle (circ. Intermin. 13/08/2013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comprimés iodure de potassium 65 mg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700" spc="-1" strike="noStrike">
                <a:solidFill>
                  <a:srgbClr val="404040"/>
                </a:solidFill>
                <a:latin typeface="Trebuchet MS"/>
              </a:rPr>
              <a:t>Stocks Tactiqu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s ES siège de SAMU ou de SMU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Stocks de première intention déployés par les ES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300" spc="-1" strike="noStrike">
                <a:solidFill>
                  <a:srgbClr val="404040"/>
                </a:solidFill>
                <a:latin typeface="Trebuchet MS"/>
              </a:rPr>
              <a:t>Ex : Poste Sanitaire Mobile (PSM)</a:t>
            </a: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Composition définie au niveau national (commission moyens)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500" spc="-1" strike="noStrike">
                <a:solidFill>
                  <a:srgbClr val="404040"/>
                </a:solidFill>
                <a:latin typeface="Trebuchet MS"/>
              </a:rPr>
              <a:t>Stocks ANTIDOTES D’URGENCE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90A01B-0437-42D4-9E33-8B3AEF7A7337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" descr=""/>
          <p:cNvPicPr/>
          <p:nvPr/>
        </p:nvPicPr>
        <p:blipFill>
          <a:blip r:embed="rId2"/>
          <a:stretch/>
        </p:blipFill>
        <p:spPr>
          <a:xfrm>
            <a:off x="6237360" y="3716280"/>
            <a:ext cx="214308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ERCI de votre atten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12" name="Espace réservé du contenu 5" descr=""/>
          <p:cNvPicPr/>
          <p:nvPr/>
        </p:nvPicPr>
        <p:blipFill>
          <a:blip r:embed="rId1"/>
          <a:stretch/>
        </p:blipFill>
        <p:spPr>
          <a:xfrm>
            <a:off x="6289560" y="2492280"/>
            <a:ext cx="2322720" cy="3881520"/>
          </a:xfrm>
          <a:prstGeom prst="rect">
            <a:avLst/>
          </a:prstGeom>
          <a:ln w="0">
            <a:noFill/>
          </a:ln>
        </p:spPr>
      </p:pic>
      <p:sp>
        <p:nvSpPr>
          <p:cNvPr id="313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1A3B3-1C9C-4FB7-AD87-3804F6A2F558}" type="slidenum">
              <a:rPr b="0" lang="fr-FR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4" name="Image 6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615960" cy="5666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1"/>
          <p:cNvSpPr/>
          <p:nvPr/>
        </p:nvSpPr>
        <p:spPr>
          <a:xfrm>
            <a:off x="468360" y="1484280"/>
            <a:ext cx="5976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3"/>
              </a:rPr>
              <a:t>https://www.santepubliquefrance.fr/les-actualites/2017/mise-en-place-des-postes-sanitaires-mobiles-pediatriqu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 u="sng">
                <a:solidFill>
                  <a:srgbClr val="3fcde7"/>
                </a:solidFill>
                <a:uFillTx/>
                <a:latin typeface="Trebuchet MS"/>
                <a:hlinkClick r:id="rId4"/>
              </a:rPr>
              <a:t>https://solidarites-sante.gouv.fr/fichiers/bo/2013/13-12/ste_20130012_0000_0068.pdf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rebuchet MS"/>
              </a:rPr>
              <a:t>https://solidarites-sante.gouv.fr/systeme-de-sante-et-medico-social/securite-sanitaire/article/les-moyens-sanitaires-mobilisabl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Organ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61760" y="1904760"/>
            <a:ext cx="83818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Ministère –Santé Publique France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Deux Niveaux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1 - 25 blessés - 400 kg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500" spc="-1" strike="noStrike">
                <a:solidFill>
                  <a:srgbClr val="404040"/>
                </a:solidFill>
                <a:latin typeface="Trebuchet MS"/>
              </a:rPr>
              <a:t>PSM 2 - 500 blessés - 8 tonnes médic. 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Répartition nationale (24 PSM 2 – 109 PSM1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Plate-forme nationale projetable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Implantée sur le site du CHU Henri Mondor à Créteil, au sein du SAMU 94, hélistation répondant aux normes européennes et susceptible d’accueillir des hélicoptères gros porteurs, proximité avec les aéroports de la région parisienne.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lvl="2" marL="1119960" indent="-22392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000" spc="-1" strike="noStrike">
                <a:solidFill>
                  <a:srgbClr val="404040"/>
                </a:solidFill>
                <a:latin typeface="Trebuchet MS"/>
              </a:rPr>
              <a:t>Les moyens de la plateforme nationale : PSM3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700" spc="-1" strike="noStrike">
                <a:solidFill>
                  <a:srgbClr val="404040"/>
                </a:solidFill>
                <a:latin typeface="Trebuchet MS"/>
              </a:rPr>
              <a:t>Localisation des PSM: CH avec SAMU ou SMUR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700" spc="-1" strike="noStrike">
                <a:solidFill>
                  <a:srgbClr val="404040"/>
                </a:solidFill>
                <a:latin typeface="Trebuchet MS"/>
              </a:rPr>
              <a:t>Zone Est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4 PSM 2 : Besançon, Nancy, Reims et Strasbourg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8 PSM ped (chaque siège de SAMU-SMUR: 1/ département)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lvl="1" marL="839880" indent="-44784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Trebuchet MS"/>
              </a:rPr>
              <a:t>15 PSM 1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51519-31B9-40C8-9163-7AB10660C576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Image 5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4049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D48F7-BD87-4F77-87D7-3264721588CF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24360" y="2349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5155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600" spc="-1" strike="noStrike">
                <a:solidFill>
                  <a:srgbClr val="5fcbef"/>
                </a:solidFill>
                <a:latin typeface="Trebuchet MS"/>
              </a:rPr>
              <a:t>Localisation en Zone Es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20F0B-C4D2-4AC6-AA4B-E29F5F064DE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Image 1" descr=""/>
          <p:cNvPicPr/>
          <p:nvPr/>
        </p:nvPicPr>
        <p:blipFill>
          <a:blip r:embed="rId1"/>
          <a:stretch/>
        </p:blipFill>
        <p:spPr>
          <a:xfrm>
            <a:off x="2340000" y="1330200"/>
            <a:ext cx="5400720" cy="5185080"/>
          </a:xfrm>
          <a:prstGeom prst="rect">
            <a:avLst/>
          </a:prstGeom>
          <a:ln w="0">
            <a:noFill/>
          </a:ln>
        </p:spPr>
      </p:pic>
      <p:pic>
        <p:nvPicPr>
          <p:cNvPr id="241" name="Image 2" descr=""/>
          <p:cNvPicPr/>
          <p:nvPr/>
        </p:nvPicPr>
        <p:blipFill>
          <a:blip r:embed="rId2"/>
          <a:stretch/>
        </p:blipFill>
        <p:spPr>
          <a:xfrm>
            <a:off x="7956720" y="609480"/>
            <a:ext cx="615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Doctrine d’emploi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4360" y="1904760"/>
            <a:ext cx="83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Positionné dans les établissement de santé sièges de SAMU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Gestion des PSM sous la responsabilité du SAMU et de la Pharmac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404040"/>
                </a:solidFill>
                <a:latin typeface="Trebuchet MS"/>
              </a:rPr>
              <a:t>Mobilisable H24 par le médecin responsable du SAMU sur un évènement local ou par l’ARS/Z et ou SPF pour un renfort sur la zone ou sur le territoire nation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D764B-5971-4641-A06A-0F51F6FB37C9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639720"/>
            <a:ext cx="669600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2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8400" y="1091880"/>
            <a:ext cx="807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tériel médical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4 lots polyvalents identifiés A, B, C, 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11 malles, 25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2 lots principaux identifiés 1 et 2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56 malles, 200 blessés graves par l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Equipements logistiques 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Remorque, tente, groupe électrogène, brancard, etc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La totalité du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PSM2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1800" spc="-1" strike="noStrike">
                <a:solidFill>
                  <a:srgbClr val="404040"/>
                </a:solidFill>
                <a:latin typeface="Trebuchet MS"/>
              </a:rPr>
              <a:t>500 victimes dont 100 UA</a:t>
            </a: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 pendant 24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Intégration des éléments relatif au damage control, Note d’information de novembre 201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PSM I =&gt; équivalent de 1 lot polyvalent du PSM II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114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9B56B-394E-4B3B-8A74-0D4D7FAD9E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Image 5" descr=""/>
          <p:cNvPicPr/>
          <p:nvPr/>
        </p:nvPicPr>
        <p:blipFill>
          <a:blip r:embed="rId1"/>
          <a:stretch/>
        </p:blipFill>
        <p:spPr>
          <a:xfrm>
            <a:off x="7596360" y="22716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250" name="Image 4" descr=""/>
          <p:cNvPicPr/>
          <p:nvPr/>
        </p:nvPicPr>
        <p:blipFill>
          <a:blip r:embed="rId2"/>
          <a:stretch/>
        </p:blipFill>
        <p:spPr>
          <a:xfrm>
            <a:off x="6211800" y="1195560"/>
            <a:ext cx="2760840" cy="2071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IMGP2297"/>
          <p:cNvPicPr/>
          <p:nvPr/>
        </p:nvPicPr>
        <p:blipFill>
          <a:blip r:embed="rId3"/>
          <a:stretch/>
        </p:blipFill>
        <p:spPr>
          <a:xfrm>
            <a:off x="6981840" y="5445000"/>
            <a:ext cx="1992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Mobilisatio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01600" y="1915920"/>
            <a:ext cx="475128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ception modulaire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Malles formatées, standardisées, empilables et palettisable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Un lot polyvalent sur remorque : départ H24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404040"/>
                </a:solidFill>
                <a:latin typeface="Trebuchet MS"/>
              </a:rPr>
              <a:t>Transport terrestre ou héliporté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Espace réservé du numéro de diapositive 6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A172E-0D67-47CE-AFE7-3D18AC13FD13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R:\PSM2\COURS\20170529_110604.jpg"/>
          <p:cNvPicPr/>
          <p:nvPr/>
        </p:nvPicPr>
        <p:blipFill>
          <a:blip r:embed="rId2"/>
          <a:stretch/>
        </p:blipFill>
        <p:spPr>
          <a:xfrm>
            <a:off x="4952880" y="1557360"/>
            <a:ext cx="3857760" cy="4869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LOGO"/>
          <p:cNvPicPr/>
          <p:nvPr/>
        </p:nvPicPr>
        <p:blipFill>
          <a:blip r:embed="rId3"/>
          <a:stretch/>
        </p:blipFill>
        <p:spPr>
          <a:xfrm>
            <a:off x="7808760" y="981000"/>
            <a:ext cx="88740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" descr=""/>
          <p:cNvPicPr/>
          <p:nvPr/>
        </p:nvPicPr>
        <p:blipFill>
          <a:blip r:embed="rId4"/>
          <a:stretch/>
        </p:blipFill>
        <p:spPr>
          <a:xfrm>
            <a:off x="985680" y="4925880"/>
            <a:ext cx="25066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53560"/>
            <a:ext cx="81630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5fcbef"/>
                </a:solidFill>
                <a:latin typeface="Trebuchet MS"/>
              </a:rPr>
              <a:t>PSM Pédiatriqu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9984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1 lot PSM pédiatrique 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onstitué de 11 malles de contenu polyvalent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Ne comporte pas de malle spécifique Antidot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L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PSM pédiatrique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permet la prise en charge de </a:t>
            </a:r>
            <a:r>
              <a:rPr b="1" lang="fr-FR" sz="2000" spc="-1" strike="noStrike">
                <a:solidFill>
                  <a:srgbClr val="404040"/>
                </a:solidFill>
                <a:latin typeface="Trebuchet MS"/>
              </a:rPr>
              <a:t>25 UA</a:t>
            </a: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 de moins de 10 ans (entre 10 et 30 kg) pendant 6h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Cette dotation intègre des produits du damage control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Trebuchet MS"/>
              </a:rPr>
              <a:t>Départ en moins de 30 minutes vers le lieux de la catastrophe ou vers un hôpital confronté à une prise en charge de victimes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Espace réservé du numéro de diapositive 4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1ED3F-60B4-4DFC-A913-F40D0D6E44FE}" type="slidenum">
              <a:rPr b="0" lang="fr-FR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Image 5" descr=""/>
          <p:cNvPicPr/>
          <p:nvPr/>
        </p:nvPicPr>
        <p:blipFill>
          <a:blip r:embed="rId1"/>
          <a:stretch/>
        </p:blipFill>
        <p:spPr>
          <a:xfrm>
            <a:off x="8080200" y="189000"/>
            <a:ext cx="615960" cy="568080"/>
          </a:xfrm>
          <a:prstGeom prst="rect">
            <a:avLst/>
          </a:prstGeom>
          <a:ln w="0">
            <a:noFill/>
          </a:ln>
        </p:spPr>
      </p:pic>
      <p:pic>
        <p:nvPicPr>
          <p:cNvPr id="263" name="Image 1" descr=""/>
          <p:cNvPicPr/>
          <p:nvPr/>
        </p:nvPicPr>
        <p:blipFill>
          <a:blip r:embed="rId2"/>
          <a:stretch/>
        </p:blipFill>
        <p:spPr>
          <a:xfrm>
            <a:off x="5076720" y="258840"/>
            <a:ext cx="24703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08:12:10Z</dcterms:created>
  <dc:creator>F RAFFY</dc:creator>
  <dc:description/>
  <dc:language>en-US</dc:language>
  <cp:lastModifiedBy>Maeva Cabané-Chrestia</cp:lastModifiedBy>
  <dcterms:modified xsi:type="dcterms:W3CDTF">2023-09-25T15:29:54Z</dcterms:modified>
  <cp:revision>260</cp:revision>
  <dc:subject/>
  <dc:title>Présentation PowerPoint</dc:title>
</cp:coreProperties>
</file>