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6867-87D8-4442-81B6-C2FBA5E714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3744-8B27-4089-BC88-3E496D0BAA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874-CE17-4BBB-ADEA-11EA1F12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9E22-C0BA-489C-A353-7FA0F526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881-49A3-4DF0-900E-E4348C36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5E3-1A49-4A81-AE90-3CF9F011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61B-6913-42C9-A033-D5D56F19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60C-F379-4E2C-B17A-17897BA3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5F5-F08B-47A9-A20C-B4090517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F30-6490-4546-A74A-2268E058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79D-81EF-4E67-8F61-064FC394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C78D-797B-460D-8362-218707BB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870-EF5A-4446-8FF3-A891C3D5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FE0-D93E-427C-A0EF-2B5184AD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4FE7-C748-4D1B-A616-6A3522B3B53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Connecteur droit 5" descr=""/>
          <p:cNvPicPr/>
          <p:nvPr/>
        </p:nvPicPr>
        <p:blipFill>
          <a:blip r:embed="rId2"/>
          <a:stretch/>
        </p:blipFill>
        <p:spPr>
          <a:xfrm>
            <a:off x="139680" y="1347840"/>
            <a:ext cx="8967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Infections septicémiques et endocardi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chémas thérapeu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ecommandations européennes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ut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aphylocoque, strept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ntistaphylococciques (en association en cas d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nfection du pi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beta-lactami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Synergistines, lincosanides (clindamyc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Autres : fluoroquinolone, rifampicine, acide fusidique, fosfomycine, glycopeptides, aminosides, linézolide, daptomy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ur strept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énicil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Clindamy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stéo-articu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aphyl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énicilline anti staphylococcique en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luoroquinolones, rifampicine, acide fusidique, fosfomycine, clindamycine = bonne pénétration oss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glycopeptides en association au début du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uveaux antistaphylococciques : daptomycine à évaluer, linézo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Choix selon la porte d'entr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odalités d'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cherche des meilleures données pharmacologiques et pharmacodynam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arqueur prévisionnel d'efficac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centrations sé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centrations minimales inhibitrices/bactéric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quotients inhibi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ire sous la cour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ouvoir bactéricide du sé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Modalités / durée du trait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oie intraveineuse continue ou discontinue selon les propriétés pharmacologiques et pharmacodynam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oie orale uniquement dans certaines situations particulières (typhoïde, brucellose, utilisation de fluoroquinol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ivilégier les associations bactéricides synergiques en début d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 (inoculum important, risque septiq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viter les antibiotiques bactériostatiques (macrolides, cycli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urée variable selon la porte d'entrée et surtout les localisations second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 moyenne deux à quatre sema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oins si porte d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rée urinaire ou pulmonaire ou méning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Endocard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Définition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 du tissu endothélial recouvrant les valves cardiaques, favorisée par des lésions préexistant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séquence : lésions destructrices ou végé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Formes cliniques 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docardite subaiguë "d'Osler" / aiguës (staphylocoque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docardite sur valves mécaniques/nativ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rtalité : 16 % variable selon le microorganisme en cause (plus de 50 % de mortalité pour les endocardites à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Candida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treptocoques non group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treptocoques D (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S.bovi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S. galolyticu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ntéroco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taphyloco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Can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utres (groupe HACEK,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Bartonella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Coxiella burnetii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Particularités du traitement antibio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bactéricidie perma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ncentrations bactéricides dans la valve (tissu de pénétration difficile, absence de réaction inflammatoi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osologie éle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durée longue (4 à 6 semai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onitoring de l'antibiothérapi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63272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84872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docardites à staphyl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71440" y="1844640"/>
            <a:ext cx="86011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docardites à entér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730080" y="1476360"/>
            <a:ext cx="76838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Principes de base du traitement antibio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s potentiellement sévè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s aiguë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tilisation des associations d'antibiotiques pour améliorer l'efficac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cherche de sy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itement du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ntibiothérapie par voie intravein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itement empi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hoix selon la porte d'entrée présum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aptation en fonction de l'isolement du micro organisme et de son antibi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as particulier: endoca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nfection subaigu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itement empirique dis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empi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73160" y="1222200"/>
            <a:ext cx="879768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2867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Mesures associ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hirurgie si nécess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hoc, IC, TDC, valve prothétique, grosse végétation, fièvre persi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urveillance rapprochée et prolong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linique +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chographie cardi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ntibioprophylax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elon le type de cardiopathie et la chiru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chéma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oins dentaires et VAS sous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moxicilline 3g 1h avant le g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u pristinamycine 1g 1h avant le g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oins dentaires et VAS sous 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moxicilline 2g IV 1h avant, 1g po 6h apr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ancomycine 1g 1h a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Antibiothérapie initiale </a:t>
            </a:r>
            <a:br>
              <a:rPr sz="3200"/>
            </a:b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indication et critères de cho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connaissance du syndrome septicém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RIS, sep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èvre, tachycardie, frisson, marbru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oint d'appel cli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raitement empirique à adapter sel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porte d'ent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localisations second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signes de gra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xistence d'un état de c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hute tensionnel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caractère nosoc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uvelles définitions du sepsi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JAMA 23 février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défini comme une dysfonction d’organe menaçant le pronostic vital et causé par une réponse inappropriée de l’hôte à une inf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Il n’y a plus de distinguo sepsis/sepsis gr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Calibri"/>
              </a:rPr>
              <a:t>Au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gmentation du score SOFA (Sequential Organ Failure Assessment) d’au moins 2 points lié à l’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core SO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Calibri"/>
              </a:rPr>
              <a:t>critères simplifiés, utilisables hors réanimation, pour dépistage de patients pouvant avoir un sepsi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Calibri"/>
              </a:rPr>
              <a:t>Pression artérielle systolique ≤ 100 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Calibri"/>
              </a:rPr>
              <a:t>Fréquence respiratoire ≥ 22/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Calibri"/>
              </a:rPr>
              <a:t>Con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Calibri"/>
              </a:rPr>
              <a:t>La présence de 2 critères quick SOFA (qSOFA) identifie des patients risquant d’avoir un mauvais pronostic et justifiant d’un monitorage accru, et/ou d’un traitement spécifique et/ou de prendre un avis en réanima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c sep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Calibri"/>
              </a:rPr>
              <a:t>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Calibri"/>
              </a:rPr>
              <a:t> est défini par l’association d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Se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Besoin de drogues vasopressives pour maintenir une PAM ≥ 65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Lactates &gt; 2 mmol/l (18mg/dl) malgré un remplissage adéqu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cci à gram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Staphylococcus aureu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et Staphylocoques blancs : porte d'entrée cuta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treptocoque (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S.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agalactia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acilles à Gram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térobactéries (porte d'entrée digestive, urina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Pseudomonas aeruginosa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Acinetobacte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caractère nosocomial, sujets fragilis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naéro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rte d'entrée diges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acilles à Gram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beaucoup plus rares : corynebacteries,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Lis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cci à Gram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Neisseria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méningoco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0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éevaluation à 48-72 heures selon l'antibiogramme en respectant les mêmes règles de prescription init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ntérêt de la desescalade thérapeu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fficacité plutôt que le spec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a tolé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éc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écon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Choix selon la porte d'entr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rinaire (pyélonéphrite, prostat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érobactéries,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E. 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éphalosporines de troisième génération +/- aminosid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luoroquinolones, +/- amino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ulm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neum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moxicilline, céphalosporines de troisième géné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crolides et apparen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uvelles fluoroquinolones en deuxième 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ges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érobactéries + anaérobies + entér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ssociation céphalosporine ou pénicilline à spectre large + amino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éning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éningocoque, pneum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21:43:54Z</dcterms:created>
  <dc:creator>yves hansmann</dc:creator>
  <dc:description/>
  <dc:language>en-US</dc:language>
  <cp:lastModifiedBy>HANSMANN Yves</cp:lastModifiedBy>
  <dcterms:modified xsi:type="dcterms:W3CDTF">2019-03-01T13:51:06Z</dcterms:modified>
  <cp:revision>16</cp:revision>
  <dc:subject/>
  <dc:title>Infections septicémiques et endocardites schémas thérapeutiques</dc:title>
</cp:coreProperties>
</file>