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move the slide</a:t>
            </a:r>
            <a:endParaRPr b="0" lang="en-US" sz="4400" spc="-1" strike="noStrike">
              <a:solidFill>
                <a:srgbClr val="04617b"/>
              </a:solidFill>
              <a:latin typeface="Calibri"/>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0AB9-08C2-4785-B5E4-8673EA532A22}" type="slidenum">
              <a:rPr b="0" lang="fr-F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72A2-3BE2-44F2-91CE-E6727697CBF0}"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1C2D8-F9D6-43DA-AB43-74C0D91718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2A8BC2-272B-4CDE-917F-B4013C2AAF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72BF95C-E99D-488C-B81D-AE5B95098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9B31F6D-761D-4CC7-A6D9-FA2154EDEA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876341-8B74-4CD8-8DCD-8AAA79E09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3844E1-0CE6-4ECC-A737-32968EBC9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80DF03-CD0F-4388-BBD1-D1600E966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D7AA3B-F7ED-43B2-ACA4-F75B2B41B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A00287-B686-4D1F-8E49-6BD5A3EB2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6C6A7D-BE2A-4649-9328-0E1E49635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9A02A2-5E5C-4A83-95E9-350956B8E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E66C879-678B-4C4A-868F-ECE3F0246D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A7EAE2-BCB3-4F0D-98BD-BEA6EA1AD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2D3440-145A-4F51-A4EB-2A8D68D354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639BA2-B95B-4DC6-99F0-1AEA8C058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0952AE0-18BD-4ED3-ACD0-0C8972F793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860BBC-B564-4F43-8996-AF422FB2FCF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3F61BDE-52C1-405A-AEEF-0743A0D2AB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A2EEF85-A6C5-43A5-8C2C-A17C3B1206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sldNum" idx="1"/>
          </p:nvPr>
        </p:nvSpPr>
        <p:spPr/>
        <p:txBody>
          <a:bodyPr/>
          <a:p>
            <a:fld id="{DCFA2877-B69C-48D1-BD28-18E54A2E3C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7AEE193-EE7D-42B9-8698-163E4C2BAE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CC4D88-4E65-4468-8967-03E988A238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DDD391C-0AA2-4793-B948-58DB5CA9ED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C44AC7-2D3C-47C7-9EF8-51F711D43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5487-BDB1-415C-9A7F-0CD41EA7564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8F86-2EA2-464D-842A-E9CA931BD02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marches hôpital"/>
          <p:cNvPicPr/>
          <p:nvPr/>
        </p:nvPicPr>
        <p:blipFill>
          <a:blip r:embed="rId1"/>
          <a:stretch/>
        </p:blipFill>
        <p:spPr>
          <a:xfrm>
            <a:off x="4788000" y="125280"/>
            <a:ext cx="4252680" cy="6599520"/>
          </a:xfrm>
          <a:prstGeom prst="rect">
            <a:avLst/>
          </a:prstGeom>
          <a:ln w="0">
            <a:noFill/>
          </a:ln>
        </p:spPr>
      </p:pic>
      <p:pic>
        <p:nvPicPr>
          <p:cNvPr id="90" name="Picture 3" descr="marches hôpital"/>
          <p:cNvPicPr/>
          <p:nvPr/>
        </p:nvPicPr>
        <p:blipFill>
          <a:blip r:embed="rId2"/>
          <a:stretch/>
        </p:blipFill>
        <p:spPr>
          <a:xfrm>
            <a:off x="115920" y="125280"/>
            <a:ext cx="4672080" cy="6599520"/>
          </a:xfrm>
          <a:prstGeom prst="rect">
            <a:avLst/>
          </a:prstGeom>
          <a:ln w="0">
            <a:noFill/>
          </a:ln>
        </p:spPr>
      </p:pic>
      <p:sp>
        <p:nvSpPr>
          <p:cNvPr id="91" name="PlaceHolder 1"/>
          <p:cNvSpPr>
            <a:spLocks noGrp="1"/>
          </p:cNvSpPr>
          <p:nvPr>
            <p:ph type="title"/>
          </p:nvPr>
        </p:nvSpPr>
        <p:spPr>
          <a:xfrm>
            <a:off x="1042560" y="1628280"/>
            <a:ext cx="7201080" cy="2087640"/>
          </a:xfrm>
          <a:prstGeom prst="rect">
            <a:avLst/>
          </a:prstGeom>
          <a:solidFill>
            <a:srgbClr val="ffebb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6a3"/>
                </a:solidFill>
                <a:latin typeface="Calibri"/>
              </a:rPr>
              <a:t>Maladies psychiatriques et vigilance thérapeutique</a:t>
            </a:r>
            <a:endParaRPr b="0" lang="en-US" sz="4400" spc="-1" strike="noStrike">
              <a:solidFill>
                <a:srgbClr val="04617b"/>
              </a:solidFill>
              <a:latin typeface="Calibri"/>
            </a:endParaRPr>
          </a:p>
        </p:txBody>
      </p:sp>
      <p:sp>
        <p:nvSpPr>
          <p:cNvPr id="92" name="PlaceHolder 2"/>
          <p:cNvSpPr>
            <a:spLocks noGrp="1"/>
          </p:cNvSpPr>
          <p:nvPr>
            <p:ph type="subTitle"/>
          </p:nvPr>
        </p:nvSpPr>
        <p:spPr>
          <a:xfrm>
            <a:off x="1371600" y="5516640"/>
            <a:ext cx="640080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Dijon, 24 mars 2015</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Pr Bernard BONIN</a:t>
            </a:r>
            <a:endParaRPr b="0" lang="en-US" sz="2400" spc="-1" strike="noStrike">
              <a:solidFill>
                <a:srgbClr val="000000"/>
              </a:solidFill>
              <a:latin typeface="Calibri"/>
            </a:endParaRPr>
          </a:p>
        </p:txBody>
      </p:sp>
      <p:sp>
        <p:nvSpPr>
          <p:cNvPr id="93" name="Text Box 7"/>
          <p:cNvSpPr/>
          <p:nvPr/>
        </p:nvSpPr>
        <p:spPr>
          <a:xfrm>
            <a:off x="-46080" y="4384800"/>
            <a:ext cx="3754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Adolesc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           </a:t>
            </a:r>
            <a:r>
              <a:rPr b="0" lang="fr-FR" sz="2400" spc="-1" strike="noStrike">
                <a:solidFill>
                  <a:srgbClr val="ff3300"/>
                </a:solidFill>
                <a:latin typeface="Arial"/>
                <a:ea typeface="Arial"/>
              </a:rPr>
              <a:t>Femmes encei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Sujets âgés</a:t>
            </a:r>
            <a:endParaRPr b="0" lang="en-US" sz="2400" spc="-1" strike="noStrike">
              <a:solidFill>
                <a:srgbClr val="000000"/>
              </a:solidFill>
              <a:latin typeface="Arial"/>
            </a:endParaRPr>
          </a:p>
        </p:txBody>
      </p:sp>
      <p:pic>
        <p:nvPicPr>
          <p:cNvPr id="94" name="Picture 11" descr=""/>
          <p:cNvPicPr/>
          <p:nvPr/>
        </p:nvPicPr>
        <p:blipFill>
          <a:blip r:embed="rId3"/>
          <a:stretch/>
        </p:blipFill>
        <p:spPr>
          <a:xfrm>
            <a:off x="395280" y="260280"/>
            <a:ext cx="1373040" cy="681120"/>
          </a:xfrm>
          <a:prstGeom prst="rect">
            <a:avLst/>
          </a:prstGeom>
          <a:ln w="0">
            <a:noFill/>
          </a:ln>
        </p:spPr>
      </p:pic>
      <p:pic>
        <p:nvPicPr>
          <p:cNvPr id="95" name="Image 6" descr="CHU.jpg"/>
          <p:cNvPicPr/>
          <p:nvPr/>
        </p:nvPicPr>
        <p:blipFill>
          <a:blip r:embed="rId4"/>
          <a:stretch/>
        </p:blipFill>
        <p:spPr>
          <a:xfrm>
            <a:off x="3537000" y="444600"/>
            <a:ext cx="658800" cy="768240"/>
          </a:xfrm>
          <a:prstGeom prst="rect">
            <a:avLst/>
          </a:prstGeom>
          <a:ln w="0">
            <a:noFill/>
          </a:ln>
        </p:spPr>
      </p:pic>
      <p:pic>
        <p:nvPicPr>
          <p:cNvPr id="96" name="Picture 5" descr="logo-LPPM5"/>
          <p:cNvPicPr/>
          <p:nvPr/>
        </p:nvPicPr>
        <p:blipFill>
          <a:blip r:embed="rId5"/>
          <a:stretch/>
        </p:blipFill>
        <p:spPr>
          <a:xfrm>
            <a:off x="6973920" y="352440"/>
            <a:ext cx="1666800" cy="4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SYMPTOMES PSYCHOMOTEURS</a:t>
            </a:r>
            <a:endParaRPr b="0" lang="en-US" sz="4000" spc="-1" strike="noStrike">
              <a:solidFill>
                <a:srgbClr val="04617b"/>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alentissement psychomoteu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aralysie psychiqu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boulie: incapacité à vouloi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pragmatisme: absence d’activité</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cognitifs: attention, concentrati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Inhibitio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pharmacodynamiques</a:t>
            </a:r>
            <a:endParaRPr b="0" lang="en-US" sz="3600" spc="-1" strike="noStrike">
              <a:solidFill>
                <a:srgbClr val="04617b"/>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en nombre des récepteurs D2, des neurones dopaminergiques et cholinergiqu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a:t>
            </a:r>
            <a:r>
              <a:rPr b="0" lang="fr-FR" sz="2800" spc="-1" strike="noStrike">
                <a:solidFill>
                  <a:srgbClr val="0099ff"/>
                </a:solidFill>
                <a:latin typeface="Calibri"/>
              </a:rPr>
              <a:t>de la sensibilité du système GABA aux benzodiazépin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du métabolisme neuronal</a:t>
            </a: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ML CATTERSON, 1997- T SUNDERLAND, 2005 – FINKEL,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 niveau cérébral</a:t>
            </a:r>
            <a:endParaRPr b="0" lang="en-US" sz="4400" spc="-1" strike="noStrike">
              <a:solidFill>
                <a:srgbClr val="04617b"/>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Distribution</a:t>
            </a:r>
            <a:r>
              <a:rPr b="0" lang="fr-FR" sz="3200" spc="-1" strike="noStrike">
                <a:solidFill>
                  <a:srgbClr val="000000"/>
                </a:solidFill>
                <a:latin typeface="Calibri"/>
              </a:rPr>
              <a:t> </a:t>
            </a:r>
            <a:r>
              <a:rPr b="0" lang="fr-FR" sz="3200" spc="-1" strike="noStrike">
                <a:solidFill>
                  <a:srgbClr val="0f6fc6"/>
                </a:solidFill>
                <a:latin typeface="Calibri"/>
              </a:rPr>
              <a:t>des médicaments favorisée du fait du débit cérébral conservé</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Augment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concentrations plasmatiques des 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raction libre ac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demi-vie d’élimination</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Plus grande sensibilité cérébr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DONC</a:t>
            </a:r>
            <a:endParaRPr b="0" lang="en-US" sz="4400" spc="-1" strike="noStrike">
              <a:solidFill>
                <a:srgbClr val="04617b"/>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L’effet thérapeutique ou les effets indésirables peuvent être observés avec des posologies inférieures à celles de l’adulte</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Risque d’accumulation des médicaments dans l’organisme: espacement des prises</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Prudence des associations médicamenteuses</a:t>
            </a:r>
            <a:endParaRPr b="0" lang="en-US" sz="3200" spc="-1" strike="noStrike">
              <a:solidFill>
                <a:srgbClr val="000000"/>
              </a:solidFill>
              <a:latin typeface="Calibri"/>
            </a:endParaRPr>
          </a:p>
          <a:p>
            <a:pPr marL="343080" indent="-343080">
              <a:lnSpc>
                <a:spcPct val="90000"/>
              </a:lnSpc>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IATROGE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Comorbidités fréquentes: pathologies cardiovasculaires, hépatiques et rénale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Terrain:</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 plus grande sensibilité cardiaque à certains médicament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fragilité osseuse….</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Polymédicamentations</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Compliance</a:t>
            </a:r>
            <a:endParaRPr b="0" lang="en-US" sz="4400" spc="-1" strike="noStrike">
              <a:solidFill>
                <a:srgbClr val="04617b"/>
              </a:solidFill>
              <a:latin typeface="Calibri"/>
            </a:endParaRPr>
          </a:p>
        </p:txBody>
      </p:sp>
      <p:sp>
        <p:nvSpPr>
          <p:cNvPr id="33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acteurs d’inobserva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compréhension des raisons de la prescription, de la nécessité du suiv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cte intentionnel&gt;trouble mnésiq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 de médicaments: quand le nombre de médicaments augmente de 4, le taux de non- compliance augmente de 15</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n-compliance chez les personnes âgées: 40 à 75% </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GENERIQU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MD MILLER, 2000C – SALZMAN, 199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4572000" y="387360"/>
            <a:ext cx="4889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itre 1"/>
          <p:cNvSpPr/>
          <p:nvPr/>
        </p:nvSpPr>
        <p:spPr>
          <a:xfrm>
            <a:off x="324000" y="2708280"/>
            <a:ext cx="7343640" cy="1157400"/>
          </a:xfrm>
          <a:prstGeom prst="rect">
            <a:avLst/>
          </a:prstGeom>
          <a:solidFill>
            <a:srgbClr val="dbf5f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Facteurs liés aux médica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RAITEMENT PREVENTIF</a:t>
            </a:r>
            <a:endParaRPr b="0" lang="en-US" sz="4400" spc="-1" strike="noStrike">
              <a:solidFill>
                <a:srgbClr val="04617b"/>
              </a:solidFill>
              <a:latin typeface="Calibri"/>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Chez le sujet âgé: traitement prophylactique</a:t>
            </a:r>
            <a:endParaRPr b="0" lang="en-US" sz="3200" spc="-1" strike="noStrike">
              <a:solidFill>
                <a:srgbClr val="04617b"/>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 au long terme: ESSENTIEL</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1) Sels de lithiu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2) Divalproate +/- olanzapine, rispéridone, aripiprazo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3)Lamotrigine +/- antipsychotiques de seconde génération</a:t>
            </a:r>
            <a:endParaRPr b="0" lang="en-US" sz="3200" spc="-1" strike="noStrike">
              <a:solidFill>
                <a:srgbClr val="000000"/>
              </a:solidFill>
              <a:latin typeface="Calibri"/>
            </a:endParaRPr>
          </a:p>
        </p:txBody>
      </p:sp>
      <p:sp>
        <p:nvSpPr>
          <p:cNvPr id="345" name="Text Box 4"/>
          <p:cNvSpPr/>
          <p:nvPr/>
        </p:nvSpPr>
        <p:spPr>
          <a:xfrm>
            <a:off x="2553120" y="5753160"/>
            <a:ext cx="38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DA: lithium, olanzapine, lamotri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DEX THERAPEUTIQUES DES THYMOREGULATEURS</a:t>
            </a:r>
            <a:endParaRPr b="0" lang="en-US" sz="4000" spc="-1" strike="noStrike">
              <a:solidFill>
                <a:srgbClr val="04617b"/>
              </a:solidFill>
              <a:latin typeface="Calibri"/>
            </a:endParaRPr>
          </a:p>
        </p:txBody>
      </p:sp>
      <p:graphicFrame>
        <p:nvGraphicFramePr>
          <p:cNvPr id="347" name=""/>
          <p:cNvGraphicFramePr/>
          <p:nvPr/>
        </p:nvGraphicFramePr>
        <p:xfrm>
          <a:off x="457200" y="1600200"/>
          <a:ext cx="8229600" cy="4456080"/>
        </p:xfrm>
        <a:graphic>
          <a:graphicData uri="http://schemas.openxmlformats.org/drawingml/2006/table">
            <a:tbl>
              <a:tblPr/>
              <a:tblGrid>
                <a:gridCol w="3683160"/>
                <a:gridCol w="4546440"/>
              </a:tblGrid>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THI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0,6 à 1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8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6  mEq/l APA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7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EGRETO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 à 1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5ug/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PAMIDE</a:t>
                      </a:r>
                      <a:br>
                        <a:rPr sz="2800"/>
                      </a:br>
                      <a:r>
                        <a:rPr b="0" lang="fr-FR" sz="2800" spc="-1" strike="noStrike">
                          <a:solidFill>
                            <a:srgbClr val="0099ff"/>
                          </a:solidFill>
                          <a:latin typeface="Calibri"/>
                        </a:rPr>
                        <a:t>DEPAKO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0 à 10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60 à 90 ug/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40 à 100 ug/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OLERANCE</a:t>
            </a:r>
            <a:br>
              <a:rPr sz="4400"/>
            </a:br>
            <a:r>
              <a:rPr b="0" lang="fr-FR" sz="4400" spc="-1" strike="noStrike">
                <a:solidFill>
                  <a:srgbClr val="04617b"/>
                </a:solidFill>
                <a:latin typeface="Calibri"/>
              </a:rPr>
              <a:t>des psychotropes</a:t>
            </a:r>
            <a:endParaRPr b="0" lang="en-US" sz="4400" spc="-1" strike="noStrike">
              <a:solidFill>
                <a:srgbClr val="04617b"/>
              </a:solidFill>
              <a:latin typeface="Calibri"/>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SOMATIQUES</a:t>
            </a:r>
            <a:endParaRPr b="0" lang="en-US" sz="4400" spc="-1" strike="noStrike">
              <a:solidFill>
                <a:srgbClr val="04617b"/>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atigue (mati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l’appétit                    Amaigrissem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u sommeil (réveil précoc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sexu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ouleur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éphalées, lombalgie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igest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EDICAMENTS et EFFETS INDESIRABL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fréquents chez la personne âgé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intens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ous les effets indésirables… notamment les effets tardifs ( temps de prescription)</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équences plus grav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C’est chez le sujet âgé que les contre-indications d’association sont réell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thologies associées</a:t>
            </a:r>
            <a:endParaRPr b="0" lang="en-US" sz="4400" spc="-1" strike="noStrike">
              <a:solidFill>
                <a:srgbClr val="04617b"/>
              </a:solidFill>
              <a:latin typeface="Calibri"/>
            </a:endParaRPr>
          </a:p>
        </p:txBody>
      </p:sp>
      <p:sp>
        <p:nvSpPr>
          <p:cNvPr id="353" name="PlaceHolder 2"/>
          <p:cNvSpPr>
            <a:spLocks noGrp="1"/>
          </p:cNvSpPr>
          <p:nvPr>
            <p:ph/>
          </p:nvPr>
        </p:nvSpPr>
        <p:spPr>
          <a:xfrm>
            <a:off x="685800" y="1499760"/>
            <a:ext cx="7772400" cy="555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Glaucome par fermeture de l’angl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ertrophie prostatiqu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suffisance hépatique, rénal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thologie cardiovasculai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troubles de la conduction cardiaque, QT, infarctus récen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otension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fections neurologiqu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Fréquence des effets indésirables des psychotropes chez le sujet âgé</a:t>
            </a:r>
            <a:endParaRPr b="0" lang="en-US" sz="2800" spc="-1" strike="noStrike">
              <a:solidFill>
                <a:srgbClr val="04617b"/>
              </a:solidFill>
              <a:latin typeface="Calibri"/>
            </a:endParaRPr>
          </a:p>
        </p:txBody>
      </p:sp>
      <p:sp>
        <p:nvSpPr>
          <p:cNvPr id="35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fusion mentale:</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a:t>
            </a:r>
            <a:r>
              <a:rPr b="0" lang="fr-FR" sz="1600" spc="-1" strike="noStrike">
                <a:solidFill>
                  <a:srgbClr val="0099ff"/>
                </a:solidFill>
                <a:latin typeface="Calibri"/>
              </a:rPr>
              <a:t>activités anticholinergiques des molécu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 DV longue</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enzodiazépines</a:t>
            </a:r>
            <a:r>
              <a:rPr b="0" lang="fr-FR" sz="1400" spc="-1" strike="noStrike">
                <a:solidFill>
                  <a:srgbClr val="0099ff"/>
                </a:solidFill>
                <a:latin typeface="Calibri"/>
              </a:rPr>
              <a:t> DV longue</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clin cognitif:</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0" lang="fr-FR" sz="1600" spc="-1" strike="noStrike">
                <a:solidFill>
                  <a:srgbClr val="0099ff"/>
                </a:solidFill>
                <a:latin typeface="Calibri"/>
              </a:rPr>
              <a:t>tous les psychotropes: troubles de mémoire  Lithium Carbamazépine</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yndrome Parkinsonien:</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IRS + lithium</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hute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gt;benzodiazépines&gt;tricycliques&gt;IRSS</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tension</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cardiovasculaire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 neuroleptiques, lithium               Allongement espace QT</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norex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natrémie   IRS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F LEBERT,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psychotiques de seconde</a:t>
            </a:r>
            <a:r>
              <a:rPr b="0" lang="fr-FR" sz="4000" spc="-1" strike="noStrike">
                <a:solidFill>
                  <a:srgbClr val="04617b"/>
                </a:solidFill>
                <a:latin typeface="Calibri"/>
              </a:rPr>
              <a:t> </a:t>
            </a:r>
            <a:r>
              <a:rPr b="0" lang="fr-FR" sz="4000" spc="-1" strike="noStrike">
                <a:solidFill>
                  <a:srgbClr val="ff3300"/>
                </a:solidFill>
                <a:latin typeface="Calibri"/>
              </a:rPr>
              <a:t>génération</a:t>
            </a:r>
            <a:r>
              <a:rPr b="0" lang="fr-FR" sz="4000" spc="-1" strike="noStrike">
                <a:solidFill>
                  <a:srgbClr val="04617b"/>
                </a:solidFill>
                <a:latin typeface="Calibri"/>
              </a:rPr>
              <a:t> et démence</a:t>
            </a:r>
            <a:endParaRPr b="0" lang="en-US" sz="4000" spc="-1" strike="noStrike">
              <a:solidFill>
                <a:srgbClr val="04617b"/>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psychotiques de seconde génération</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ans une étude de prescription (10 semaines) chez des patients souffrant de démences: les décès se sont révélés plus fréquents ((X 1,6) chez les patients traités par antipsychotiques en comparaison des patients traités par placebo (mort subite, infarctus du myocarde, pneumonie)</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FDA, 2006 – LS SCHNEIDER,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Antipsychotiques de seconde génération</a:t>
            </a:r>
            <a:r>
              <a:rPr b="0" lang="fr-FR" sz="4000" spc="-1" strike="noStrike">
                <a:solidFill>
                  <a:srgbClr val="04617b"/>
                </a:solidFill>
                <a:latin typeface="Calibri"/>
              </a:rPr>
              <a:t> </a:t>
            </a:r>
            <a:br>
              <a:rPr sz="4000"/>
            </a:br>
            <a:r>
              <a:rPr b="0" lang="fr-FR" sz="2400" spc="-1" strike="noStrike">
                <a:solidFill>
                  <a:srgbClr val="04617b"/>
                </a:solidFill>
                <a:latin typeface="Calibri"/>
              </a:rPr>
              <a:t>AFFSAPS mars 2010</a:t>
            </a:r>
            <a:endParaRPr b="0" lang="en-US" sz="2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observé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rise de poid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iabè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yslipidémi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longement espace QT à l’EC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VC supérieur chez les sujets possédant des facteurs de risque d’AVC</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 considér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oubles cognitif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térations de la vigilance, de l’équilibr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olérance neurologique, fausses rout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granulocytose augmenté chez les sujets âgés avec la clozapine</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R AZIZ, 2006</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psychotiques de seconde génération </a:t>
            </a:r>
            <a:endParaRPr b="0" lang="en-US" sz="4000" spc="-1" strike="noStrike">
              <a:solidFill>
                <a:srgbClr val="04617b"/>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 de 34 696 patients souffrant de la maladie d’Alzheime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6% ont reçu un antipsychotique (rispéridone 11,2%)</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   </a:t>
            </a:r>
            <a:r>
              <a:rPr b="0" lang="fr-FR" sz="3200" spc="-1" strike="noStrike">
                <a:solidFill>
                  <a:srgbClr val="009dd9"/>
                </a:solidFill>
                <a:latin typeface="Calibri"/>
              </a:rPr>
              <a:t>Parmi ces patients: 61,3 % de consommation chroniqu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 un antidépresseu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5,3% : un anxiolytique</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 BONIN-GUILLAUME,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xiolytiques </a:t>
            </a:r>
            <a:endParaRPr b="0" lang="en-US" sz="4400" spc="-1" strike="noStrike">
              <a:solidFill>
                <a:srgbClr val="04617b"/>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mploi au long cours des benzodiazépines est déconseillé chez la personne âgée (accoutumance, masque la dépression, troubles de mémoir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ivilégier les molécules de courte demi-vie et sans métabolite actif:  oxazépam</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ffet myorelaxant: risque de chut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ediscuter régulièrement et systématiquement l’in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tidépresseurs </a:t>
            </a:r>
            <a:endParaRPr b="0" lang="en-US" sz="4400" spc="-1" strike="noStrike">
              <a:solidFill>
                <a:srgbClr val="04617b"/>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RS: risque d’hyponatrémie à l’origine d ‘un état confusionnel, de crises comitial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ricycliques: grande prudence : hypotension orthostatique, sédation, constipation, iléus paralytique, rétention d’urines, glaucome aigu, confusion men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ecommandations</a:t>
            </a:r>
            <a:endParaRPr b="0" lang="en-US" sz="4400" spc="-1" strike="noStrike">
              <a:solidFill>
                <a:srgbClr val="04617b"/>
              </a:solidFill>
              <a:latin typeface="Calibri"/>
            </a:endParaRPr>
          </a:p>
        </p:txBody>
      </p:sp>
      <p:sp>
        <p:nvSpPr>
          <p:cNvPr id="36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escrip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er les indications, les durées de traiteme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minimales efficac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nothérap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cliniqu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tension artérielle, fréquence cardia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volution, fonctions cognitiv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biolog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aux plasmatique minimal efficac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onogramme (kaliémie, natrém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réatininémie, surveillance hépatique….</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Diagnostic parfois difficile</a:t>
            </a:r>
            <a:br>
              <a:rPr sz="4000"/>
            </a:br>
            <a:r>
              <a:rPr b="0" lang="fr-FR" sz="4000" spc="-1" strike="noStrike">
                <a:solidFill>
                  <a:srgbClr val="04617b"/>
                </a:solidFill>
                <a:latin typeface="Calibri"/>
              </a:rPr>
              <a:t>Nombreuses formes cliniques</a:t>
            </a:r>
            <a:endParaRPr b="0" lang="en-US" sz="4000" spc="-1" strike="noStrike">
              <a:solidFill>
                <a:srgbClr val="04617b"/>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fant: troubles du comport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 troubles du caractè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ulte: douleurs chroniqu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 troubles pseudo-démenti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ILLEPERTUIS</a:t>
            </a:r>
            <a:endParaRPr b="0" lang="en-US" sz="4400" spc="-1" strike="noStrike">
              <a:solidFill>
                <a:srgbClr val="04617b"/>
              </a:solidFill>
              <a:latin typeface="Calibri"/>
            </a:endParaRPr>
          </a:p>
        </p:txBody>
      </p:sp>
      <p:sp>
        <p:nvSpPr>
          <p:cNvPr id="371" name="PlaceHolder 2"/>
          <p:cNvSpPr>
            <a:spLocks noGrp="1"/>
          </p:cNvSpPr>
          <p:nvPr>
            <p:ph/>
          </p:nvPr>
        </p:nvSpPr>
        <p:spPr>
          <a:xfrm>
            <a:off x="685800" y="1557000"/>
            <a:ext cx="7772400" cy="4173480"/>
          </a:xfrm>
          <a:prstGeom prst="rect">
            <a:avLst/>
          </a:prstGeom>
          <a:noFill/>
          <a:ln w="0">
            <a:noFill/>
          </a:ln>
        </p:spPr>
        <p:txBody>
          <a:bodyPr anchor="t">
            <a:normAutofit fontScale="90000"/>
          </a:bodyPr>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Hypericum perforatum</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cinétique</a:t>
            </a:r>
            <a:r>
              <a:rPr b="0" lang="fr-FR" sz="2400" spc="-1" strike="noStrike">
                <a:solidFill>
                  <a:srgbClr val="009dd9"/>
                </a:solidFill>
                <a:latin typeface="Calibri"/>
              </a:rPr>
              <a:t>: induction enzymatique. Interactions avec digoxine, théophylline, AVK, ciclosporine, contraceptifs oraux, antiviraux</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dynamique</a:t>
            </a:r>
            <a:r>
              <a:rPr b="0" lang="fr-FR" sz="2400" spc="-1" strike="noStrike">
                <a:solidFill>
                  <a:srgbClr val="009dd9"/>
                </a:solidFill>
                <a:latin typeface="Calibri"/>
              </a:rPr>
              <a:t>: action au niveau de la sérotonine: risque de syndrome sérotoninergique avec les IMAO, les IRS</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ecommandations de l’Agence Française de Sécurité Sanitaire des Produits de Santé: rechercher une prise de millepertuis par les pati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DSC01333"/>
          <p:cNvPicPr/>
          <p:nvPr/>
        </p:nvPicPr>
        <p:blipFill>
          <a:blip r:embed="rId1"/>
          <a:stretch/>
        </p:blipFill>
        <p:spPr>
          <a:xfrm>
            <a:off x="115920" y="133200"/>
            <a:ext cx="8904240" cy="6591600"/>
          </a:xfrm>
          <a:prstGeom prst="rect">
            <a:avLst/>
          </a:prstGeom>
          <a:ln w="0">
            <a:noFill/>
          </a:ln>
        </p:spPr>
      </p:pic>
      <p:sp>
        <p:nvSpPr>
          <p:cNvPr id="373" name="Titre 1"/>
          <p:cNvSpPr/>
          <p:nvPr/>
        </p:nvSpPr>
        <p:spPr>
          <a:xfrm>
            <a:off x="4284720" y="2637000"/>
            <a:ext cx="4680000" cy="653760"/>
          </a:xfrm>
          <a:prstGeom prst="rect">
            <a:avLst/>
          </a:prstGeom>
          <a:solidFill>
            <a:srgbClr val="dbf5f9"/>
          </a:solid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emme enceint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a:t>
            </a:r>
            <a:endParaRPr b="0" lang="en-US" sz="3200" spc="-1" strike="noStrike">
              <a:solidFill>
                <a:srgbClr val="000000"/>
              </a:solidFill>
              <a:latin typeface="Calibri"/>
            </a:endParaRPr>
          </a:p>
        </p:txBody>
      </p:sp>
      <p:sp>
        <p:nvSpPr>
          <p:cNvPr id="376" name="Text Box 4"/>
          <p:cNvSpPr/>
          <p:nvPr/>
        </p:nvSpPr>
        <p:spPr>
          <a:xfrm>
            <a:off x="3625200" y="4511520"/>
            <a:ext cx="3768120" cy="64260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Verdana"/>
                <a:ea typeface="Arial"/>
              </a:rPr>
              <a:t>MONOTHERAP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La manière de prescrire</a:t>
            </a:r>
            <a:endParaRPr b="0" lang="en-US" sz="4400" spc="-1" strike="noStrike">
              <a:solidFill>
                <a:srgbClr val="04617b"/>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elation soignant/soigné</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lliance thérapeutiqu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ducation thérapeutiq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lliance thérapeutique</a:t>
            </a:r>
            <a:endParaRPr b="0" lang="en-US" sz="4400" spc="-1" strike="noStrike">
              <a:solidFill>
                <a:srgbClr val="04617b"/>
              </a:solidFill>
              <a:latin typeface="Calibri"/>
            </a:endParaRPr>
          </a:p>
        </p:txBody>
      </p:sp>
      <p:sp>
        <p:nvSpPr>
          <p:cNvPr id="380" name="PlaceHolder 2"/>
          <p:cNvSpPr>
            <a:spLocks noGrp="1"/>
          </p:cNvSpPr>
          <p:nvPr>
            <p:ph/>
          </p:nvPr>
        </p:nvSpPr>
        <p:spPr>
          <a:xfrm>
            <a:off x="457200" y="1989000"/>
            <a:ext cx="8229600" cy="4137120"/>
          </a:xfrm>
          <a:prstGeom prst="rect">
            <a:avLst/>
          </a:prstGeom>
          <a:noFill/>
          <a:ln w="0">
            <a:noFill/>
          </a:ln>
        </p:spPr>
        <p:txBody>
          <a:bodyPr anchor="t">
            <a:normAutofit fontScale="95000"/>
          </a:bodyPr>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 psychologique du médecin                              Qualité de la relation médecin / malade</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uivi pour améliorer l’observance, apprécier l’évolution clinique et la tolérance des thérapeutiques</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btenir l’assentiment du patient pour le traitement. Information du patient (loi du 4 mars 2002)</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outien de l’entourage</a:t>
            </a:r>
            <a:endParaRPr b="0" lang="en-US" sz="3200" spc="-1" strike="noStrike">
              <a:solidFill>
                <a:srgbClr val="000000"/>
              </a:solidFill>
              <a:latin typeface="Calibri"/>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ducation thérapeutique</a:t>
            </a:r>
            <a:endParaRPr b="0" lang="en-US" sz="4400" spc="-1" strike="noStrike">
              <a:solidFill>
                <a:srgbClr val="04617b"/>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FORMATION du PATIENT et de son ENTOURAG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maladie   Explications de la pathologie  Symptômes </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anière et moment de prendre les médicam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lai avant l’apparition des effets bénéfiques du traitement = deux semain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e poursuivre le traitement même après l’amélioration cliniqu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effets indésirables les plus fréqu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possibilités de contact avec le médecin prescripteur</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un avis médical pour l’arrêt du traitement ou la prise d’un autre médicamen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éalité </a:t>
            </a:r>
            <a:endParaRPr b="0" lang="en-US" sz="4400" spc="-1" strike="noStrike">
              <a:solidFill>
                <a:srgbClr val="04617b"/>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core peu d’études spécifiques, contrôlées, prospectives des prescriptions médicamenteuses pour les adolescents, les femmes enceintes, les sujets âgé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roblèmes de méthode: petits échantillons, groupes hétérogènes au plan du diagnostic, pas d’entretien standardisé, faibles posologies, pas de contrôle des taux plasmatiques, courte durée des études, pas d’exclusion des placebo-répondeur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eu d’essais en double aveugl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Quelle valeur que la projection des observations concernant  l’adult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s de consensus, de « guideli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Groupes pour lesquel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maladie a un potentiel pathogène plus important, un retentissement plus grav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effets indésirables des médicaments sont non seulement plus fréquents mais aussi plus lourds de consé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Nécessité de soins attentif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UDENCE des prescriptions et des association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HARMACOVIGILANCE essentielle pour ces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QUI SE SOIGNE</a:t>
            </a:r>
            <a:endParaRPr b="0" lang="en-US" sz="4000" spc="-1" strike="noStrike">
              <a:solidFill>
                <a:srgbClr val="04617b"/>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traitement antidépresseur apaise la souffrance morale et les idéations suicidaires. C’est le moyen le plus efficace de prévention des conduites suicidaires chez les patients déprim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DSC01346"/>
          <p:cNvPicPr/>
          <p:nvPr/>
        </p:nvPicPr>
        <p:blipFill>
          <a:blip r:embed="rId1"/>
          <a:stretch/>
        </p:blipFill>
        <p:spPr>
          <a:xfrm>
            <a:off x="1908000" y="166680"/>
            <a:ext cx="5328000" cy="6513480"/>
          </a:xfrm>
          <a:prstGeom prst="rect">
            <a:avLst/>
          </a:prstGeom>
          <a:ln w="0">
            <a:noFill/>
          </a:ln>
        </p:spPr>
      </p:pic>
      <p:sp>
        <p:nvSpPr>
          <p:cNvPr id="12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Adolescent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Evaluation des traitements chez les enfants et adolescents</a:t>
            </a:r>
            <a:endParaRPr b="0" lang="en-US" sz="4000" spc="-1" strike="noStrike">
              <a:solidFill>
                <a:srgbClr val="04617b"/>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spécifiques: plan d’investigation pédiatrique prévu par le parlement européen: janvier 2007</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oblème de la généralisation des données à partir des populations spécifiques des étud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lérance à long terme ; effets sur la maturation sexuelle ; nécessité de surveillance et de bilans endocrini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2004</a:t>
            </a:r>
            <a:endParaRPr b="0" lang="en-US" sz="4400" spc="-1" strike="noStrike">
              <a:solidFill>
                <a:srgbClr val="04617b"/>
              </a:solidFill>
              <a:latin typeface="Calibri"/>
            </a:endParaRPr>
          </a:p>
        </p:txBody>
      </p:sp>
      <p:sp>
        <p:nvSpPr>
          <p:cNvPr id="127" name="PlaceHolder 2"/>
          <p:cNvSpPr>
            <a:spLocks noGrp="1"/>
          </p:cNvSpPr>
          <p:nvPr>
            <p:ph/>
          </p:nvPr>
        </p:nvSpPr>
        <p:spPr>
          <a:xfrm>
            <a:off x="685800" y="1980720"/>
            <a:ext cx="7772400" cy="367524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40 000 enfants et adolescents sont traités chaque année par antidépresseurs pour un état dépressif</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s de courte durée: 76% des demandes de remboursement correspondent à une seule délivrance</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 : ¾ des prescriptions d’antidépresseurs chez les moins de 18 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rticularités </a:t>
            </a:r>
            <a:endParaRPr b="0" lang="en-US" sz="4400" spc="-1" strike="noStrike">
              <a:solidFill>
                <a:srgbClr val="04617b"/>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icyclique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étabolisme plus rapide chez les enfants: demi vie d’élimination plus court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moins bien tolérés: asthénie</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RS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harmacocinét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fréquents: troubles digestifs, variations pondérales, irritabilité</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MAO</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n recommandé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1280" y="-360"/>
            <a:ext cx="77691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1" name=""/>
          <p:cNvGraphicFramePr/>
          <p:nvPr/>
        </p:nvGraphicFramePr>
        <p:xfrm>
          <a:off x="600120" y="681120"/>
          <a:ext cx="7772400" cy="6781680"/>
        </p:xfrm>
        <a:graphic>
          <a:graphicData uri="http://schemas.openxmlformats.org/drawingml/2006/table">
            <a:tbl>
              <a:tblPr/>
              <a:tblGrid>
                <a:gridCol w="3886200"/>
                <a:gridCol w="388620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AFRANIL clo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 / énurésie</a:t>
                      </a:r>
                      <a:endParaRPr b="0" lang="en-US" sz="2400" spc="-1" strike="noStrike">
                        <a:solidFill>
                          <a:srgbClr val="000000"/>
                        </a:solidFill>
                        <a:latin typeface="Arial"/>
                      </a:endParaRPr>
                    </a:p>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0ans / TO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3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AROXYL amitripty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6-10/11-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épression en pédops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 mg/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OFRANIL 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12/ + 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EFANYL   - SURMONT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moxapine   tr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UDIOMIL –QUITAX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maprotiline   dox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ROTHIADE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osul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1280" y="219240"/>
            <a:ext cx="776916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3" name=""/>
          <p:cNvGraphicFramePr/>
          <p:nvPr/>
        </p:nvGraphicFramePr>
        <p:xfrm>
          <a:off x="706320" y="849240"/>
          <a:ext cx="7772400" cy="5675400"/>
        </p:xfrm>
        <a:graphic>
          <a:graphicData uri="http://schemas.openxmlformats.org/drawingml/2006/table">
            <a:tbl>
              <a:tblPr/>
              <a:tblGrid>
                <a:gridCol w="3886200"/>
                <a:gridCol w="3886200"/>
              </a:tblGrid>
              <a:tr h="113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OXYFR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uvoxam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sup 8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Déconseillé   inf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ROZAC   flu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F Diapositives suivan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EROXAT – DIVARI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r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efficacité démontrée pour les moins de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6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LE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ital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scitalopr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ontre-indiqué chez l’enfant de moins de 15 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éconseillé chez l’adolescent de 15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ZOLOF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tra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DM  chez l’adul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adolescents  de 6 à 17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9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agnostic précis/Indication préci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 des contre-indications des psychotrop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ivi: Effets indésirables / Pharmacovigilanc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Observance. Qualité de l’insight, de la prise de conscience de la maladie. Soutien de l’entourage, de l’ensemble des soignant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ouffrance psychique: fréquence du suicide. Moyens thérapeutiqu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gmatisation de la maladie ment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528480"/>
            <a:ext cx="8178480" cy="6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5" name=""/>
          <p:cNvGraphicFramePr/>
          <p:nvPr/>
        </p:nvGraphicFramePr>
        <p:xfrm>
          <a:off x="685800" y="1981080"/>
          <a:ext cx="7772400" cy="4816440"/>
        </p:xfrm>
        <a:graphic>
          <a:graphicData uri="http://schemas.openxmlformats.org/drawingml/2006/table">
            <a:tbl>
              <a:tblPr/>
              <a:tblGrid>
                <a:gridCol w="3886200"/>
                <a:gridCol w="3886200"/>
              </a:tblGrid>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XEL  milnacip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7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XOR  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RSET 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s recommandé chez les enfa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THYMIL  miansér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lt;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ALDOXAN agoméla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BRINTELLIX vorti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2002 Angleterre</a:t>
            </a:r>
            <a:br>
              <a:rPr sz="4400"/>
            </a:br>
            <a:r>
              <a:rPr b="0" lang="fr-FR" sz="2400" spc="-1" strike="noStrike">
                <a:solidFill>
                  <a:srgbClr val="04617b"/>
                </a:solidFill>
                <a:latin typeface="Calibri"/>
              </a:rPr>
              <a:t>Medicines and Healthcare Products Regulatory Agency MHRA</a:t>
            </a:r>
            <a:endParaRPr b="0" lang="en-US" sz="2400" spc="-1" strike="noStrike">
              <a:solidFill>
                <a:srgbClr val="04617b"/>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cription de l’émergence de troubles psycho-comportementaux: idées, actes suicidaires, automutilations… chez des enfants, adolescents, adultes jeunes traités  par antidépresseu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USA </a:t>
            </a:r>
            <a:br>
              <a:rPr sz="4000"/>
            </a:br>
            <a:r>
              <a:rPr b="0" lang="fr-FR" sz="2400" spc="-1" strike="noStrike">
                <a:solidFill>
                  <a:srgbClr val="04617b"/>
                </a:solidFill>
                <a:latin typeface="Calibri"/>
              </a:rPr>
              <a:t>Food and Drug Administration FDA</a:t>
            </a:r>
            <a:endParaRPr b="0" lang="en-US" sz="2400" spc="-1" strike="noStrike">
              <a:solidFill>
                <a:srgbClr val="04617b"/>
              </a:solidFill>
              <a:latin typeface="Calibri"/>
            </a:endParaRPr>
          </a:p>
        </p:txBody>
      </p:sp>
      <p:sp>
        <p:nvSpPr>
          <p:cNvPr id="139" name="PlaceHolder 2"/>
          <p:cNvSpPr>
            <a:spLocks noGrp="1"/>
          </p:cNvSpPr>
          <p:nvPr>
            <p:ph/>
          </p:nvPr>
        </p:nvSpPr>
        <p:spPr>
          <a:xfrm>
            <a:off x="395280" y="1628640"/>
            <a:ext cx="8229600" cy="4781520"/>
          </a:xfrm>
          <a:prstGeom prst="rect">
            <a:avLst/>
          </a:prstGeom>
          <a:noFill/>
          <a:ln w="0">
            <a:noFill/>
          </a:ln>
        </p:spPr>
        <p:txBody>
          <a:bodyPr anchor="t">
            <a:normAutofit fontScale="96000"/>
          </a:bodyPr>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24 études / 9 antidépresseurs de différentes classes prescrits pour état dépressif, TOC, TAG, phobie sociale, TDAH</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e risque de survenue d’ événements en relation avec le suicide (tentatives de suicide, idéations suicidaires) est multiplié par 1,8 (1,7 à 2,2) chez les jeunes patients traités par antidépresseurs par rapport à ceux traités par placebo   B VITIELLO, 2009</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as de décès par suicide dans ces essais</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uicidalité mise en relation avec l’amélioration thymique insuffisante B VITIELLO, 2009</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écédents de comportements suicidaires, de dysfonctionnements familiaux: prédicteurs de tentatives de suicide P WILKINSON, 2011</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20906 enfants et adolescents suivis pendant 9 ans: pas de différences selon les antidépresseurs   S SCHNEEWEISS,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DA </a:t>
            </a:r>
            <a:r>
              <a:rPr b="0" lang="fr-FR" sz="2800" spc="-1" strike="noStrike">
                <a:solidFill>
                  <a:srgbClr val="04617b"/>
                </a:solidFill>
                <a:latin typeface="Calibri"/>
              </a:rPr>
              <a:t>KL POSTER 2005 -TA HAMMAD, 2006</a:t>
            </a:r>
            <a:endParaRPr b="0" lang="en-US" sz="2800" spc="-1" strike="noStrike">
              <a:solidFill>
                <a:srgbClr val="04617b"/>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nalyse de 23 essais et une étude TAD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9 antidépresseurs  IRS et non IR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500 patients</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istinction</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suicidaires (TS, idées suicidair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non suicidaires (accidents, autoagressivité)</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ctes auto-agressifs</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écanismes: décompensation de troubles bipolaires méconnus, syndrome d’activation comportementale, effet retardé de l’action anti-dépressive, manifestations de sevrage en cas d’oubli du traitement……</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augmentation du risque suicidaire chez l’adulte avec ISRS                   JG STOROSUM, 2001        A KHA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éta-analyse des événements suicidaires dans les essais cliniques analysés par la FDA</a:t>
            </a:r>
            <a:endParaRPr b="0" lang="en-US" sz="3200" spc="-1" strike="noStrike">
              <a:solidFill>
                <a:srgbClr val="04617b"/>
              </a:solidFill>
              <a:latin typeface="Calibri"/>
            </a:endParaRPr>
          </a:p>
        </p:txBody>
      </p:sp>
      <p:graphicFrame>
        <p:nvGraphicFramePr>
          <p:cNvPr id="143" name=""/>
          <p:cNvGraphicFramePr/>
          <p:nvPr/>
        </p:nvGraphicFramePr>
        <p:xfrm>
          <a:off x="457200" y="1600200"/>
          <a:ext cx="8229600" cy="4664160"/>
        </p:xfrm>
        <a:graphic>
          <a:graphicData uri="http://schemas.openxmlformats.org/drawingml/2006/table">
            <a:tbl>
              <a:tblPr/>
              <a:tblGrid>
                <a:gridCol w="4114800"/>
                <a:gridCol w="41148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aitemen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Odds ratios (IC 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essais Lill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0,92 (0,39-2,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talopr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37 (0,53-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sertral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8 (0,42-5,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Lilly+TA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2 (0,75-3,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8 (0,06-38,3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r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65 (1-7,0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97 (1,09-22,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voxam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5,52 (0,27-112,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AGENCE FRANCAISE DE SECURITE SANITAIRE DES PRODUITS DE SANTE</a:t>
            </a:r>
            <a:endParaRPr b="0" lang="en-US" sz="2800" spc="-1" strike="noStrike">
              <a:solidFill>
                <a:srgbClr val="04617b"/>
              </a:solidFill>
              <a:latin typeface="Calibri"/>
            </a:endParaRPr>
          </a:p>
        </p:txBody>
      </p:sp>
      <p:sp>
        <p:nvSpPr>
          <p:cNvPr id="145" name="PlaceHolder 2"/>
          <p:cNvSpPr>
            <a:spLocks noGrp="1"/>
          </p:cNvSpPr>
          <p:nvPr>
            <p:ph/>
          </p:nvPr>
        </p:nvSpPr>
        <p:spPr>
          <a:xfrm>
            <a:off x="685800" y="1981080"/>
            <a:ext cx="7772400" cy="44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ise au point 3 juin 2005</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GENCE EUROPEENNE DU MEDICAMENT (EMEA) vient de finaliser l’évaluation des données disponibles sur les antidépresseurs inhibiteurs de la recapture de la sérotonine ainsi que d’autres antidépresseurs apparentés chez l’enfant et l’adolescent ; cette évaluation fait suite à l’identification d’un risque de comportement suicidaire lors d’études cliniq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956160"/>
            <a:ext cx="7816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p:nvPr>
        </p:nvSpPr>
        <p:spPr>
          <a:xfrm>
            <a:off x="685800" y="1331640"/>
            <a:ext cx="7772400" cy="367956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conclusions de l’évaluation européenne indiquent que ces antidépresseurs sont déconseillés chez l’enfant et l’adolescent pour traiter les troubles dépressifs.</a:t>
            </a:r>
            <a:endParaRPr b="0" lang="en-US" sz="2800" spc="-1" strike="noStrike">
              <a:solidFill>
                <a:srgbClr val="000000"/>
              </a:solidFill>
              <a:latin typeface="Calibri"/>
            </a:endParaRPr>
          </a:p>
          <a:p>
            <a:pPr marL="312120" indent="-31212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tefois ils peuvent être exceptionnellement prescrits dans certaines situations cliniques nécessitant un traitement médicamenteux</a:t>
            </a:r>
            <a:r>
              <a:rPr b="0" lang="fr-FR" sz="3200" spc="-1" strike="noStrike">
                <a:solidFill>
                  <a:srgbClr val="000000"/>
                </a:solidFill>
                <a:latin typeface="Calibri"/>
              </a:rPr>
              <a:t>.</a:t>
            </a:r>
            <a:endParaRPr b="0" lang="en-US" sz="3200" spc="-1" strike="noStrike">
              <a:solidFill>
                <a:srgbClr val="000000"/>
              </a:solidFill>
              <a:latin typeface="Calibri"/>
            </a:endParaRPr>
          </a:p>
          <a:p>
            <a:pPr marL="312120" indent="-31212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urveillance du risque suicid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évrier 2006</a:t>
            </a:r>
            <a:endParaRPr b="0" lang="en-US" sz="4400" spc="-1" strike="noStrike">
              <a:solidFill>
                <a:srgbClr val="04617b"/>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EVRIER 2006</a:t>
            </a:r>
            <a:endParaRPr b="0" lang="en-US" sz="4400" spc="-1" strike="noStrike">
              <a:solidFill>
                <a:srgbClr val="04617b"/>
              </a:solidFill>
              <a:latin typeface="Calibri"/>
            </a:endParaRPr>
          </a:p>
        </p:txBody>
      </p:sp>
      <p:sp>
        <p:nvSpPr>
          <p:cNvPr id="151" name="PlaceHolder 2"/>
          <p:cNvSpPr>
            <a:spLocks noGrp="1"/>
          </p:cNvSpPr>
          <p:nvPr>
            <p:ph/>
          </p:nvPr>
        </p:nvSpPr>
        <p:spPr>
          <a:xfrm>
            <a:off x="685800" y="1980720"/>
            <a:ext cx="7772400" cy="410220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rance les médicaments antidépresseurs IRS et tricycliques sont déconseillés dans le traitement de la dépression chez l’enfant et l’adolescent.</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l existe cependant des situations particulières où, après une évaluation du rapport risque/bénéfice, le recours à ces médicaments peut être justifié.</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de la dé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ntidépresseurs déconseillés pour le traitement de la dépression avant l’âge de 18 ans</a:t>
            </a:r>
            <a:endParaRPr b="0" lang="en-US" sz="3600" spc="-1" strike="noStrike">
              <a:solidFill>
                <a:srgbClr val="04617b"/>
              </a:solidFill>
              <a:latin typeface="Calibri"/>
            </a:endParaRPr>
          </a:p>
        </p:txBody>
      </p:sp>
      <p:sp>
        <p:nvSpPr>
          <p:cNvPr id="153" name="PlaceHolder 2"/>
          <p:cNvSpPr>
            <a:spLocks noGrp="1"/>
          </p:cNvSpPr>
          <p:nvPr>
            <p:ph/>
          </p:nvPr>
        </p:nvSpPr>
        <p:spPr>
          <a:xfrm>
            <a:off x="685800" y="2509920"/>
            <a:ext cx="7772400" cy="4044960"/>
          </a:xfrm>
          <a:prstGeom prst="rect">
            <a:avLst/>
          </a:prstGeom>
          <a:noFill/>
          <a:ln w="9360">
            <a:solidFill>
              <a:srgbClr val="ff6600"/>
            </a:solidFill>
            <a:miter/>
          </a:ln>
        </p:spPr>
        <p:txBody>
          <a:bodyPr anchor="t">
            <a:normAutofit/>
          </a:bodyPr>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IRS IRSNA</a:t>
            </a:r>
            <a:r>
              <a:rPr b="0" lang="fr-FR" sz="2400" spc="-1" strike="noStrike">
                <a:solidFill>
                  <a:srgbClr val="000000"/>
                </a:solidFill>
                <a:latin typeface="Calibri"/>
              </a:rPr>
              <a:t> </a:t>
            </a:r>
            <a:r>
              <a:rPr b="0" lang="fr-FR" sz="2400" spc="-1" strike="noStrike">
                <a:solidFill>
                  <a:srgbClr val="009dd9"/>
                </a:solidFill>
                <a:latin typeface="Calibri"/>
              </a:rPr>
              <a:t>FLOXYFRAL / PROZAC / SEROPRAM / DEROXAT / EFFEXOR / IXEL / ZOLOFT / SEROPLEX / NORSET / CYMBALDA</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dd9"/>
                </a:solidFill>
                <a:uFillTx/>
                <a:latin typeface="Calibri"/>
              </a:rPr>
              <a:t>ATHYMIL</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ISQUES DE COMPORTEMENTS SUICIDAIRES OU HOSTILES</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ONSEQUENCES SUR LE DEVELOPPEMENT DE L’ ENFANT</a:t>
            </a:r>
            <a:endParaRPr b="0" lang="en-US" sz="2400" spc="-1" strike="noStrike">
              <a:solidFill>
                <a:srgbClr val="000000"/>
              </a:solidFill>
              <a:latin typeface="Calibri"/>
            </a:endParaRPr>
          </a:p>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TRICYCLIQUES</a:t>
            </a:r>
            <a:r>
              <a:rPr b="0" lang="fr-FR" sz="2400" spc="-1" strike="noStrike">
                <a:solidFill>
                  <a:srgbClr val="000000"/>
                </a:solidFill>
                <a:latin typeface="Calibri"/>
              </a:rPr>
              <a:t> + </a:t>
            </a:r>
            <a:r>
              <a:rPr b="0" lang="fr-FR" sz="2400" spc="-1" strike="noStrike">
                <a:solidFill>
                  <a:srgbClr val="009dd9"/>
                </a:solidFill>
                <a:latin typeface="Calibri"/>
              </a:rPr>
              <a:t>Risques cardiovasculaires en cas de 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Veiller à considérer TOUS les moyens thérapeu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ropes: un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utr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hérapi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lectroconvulsiv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hot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mulation magnétique transcrânienn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at   Allianc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ofessionnels   Entourage   Aidant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Ne pas prescrire d’antidépresseur</a:t>
            </a:r>
            <a:endParaRPr b="0" lang="en-US" sz="4400" spc="-1" strike="noStrike">
              <a:solidFill>
                <a:srgbClr val="04617b"/>
              </a:solidFill>
              <a:latin typeface="Calibri"/>
            </a:endParaRPr>
          </a:p>
        </p:txBody>
      </p:sp>
      <p:sp>
        <p:nvSpPr>
          <p:cNvPr id="155" name="PlaceHolder 2"/>
          <p:cNvSpPr>
            <a:spLocks noGrp="1"/>
          </p:cNvSpPr>
          <p:nvPr>
            <p:ph/>
          </p:nvPr>
        </p:nvSpPr>
        <p:spPr>
          <a:xfrm>
            <a:off x="685800" y="1980720"/>
            <a:ext cx="7772400" cy="3335400"/>
          </a:xfrm>
          <a:prstGeom prst="rect">
            <a:avLst/>
          </a:prstGeom>
          <a:noFill/>
          <a:ln w="0">
            <a:noFill/>
          </a:ln>
        </p:spPr>
        <p:txBody>
          <a:bodyPr anchor="t">
            <a:normAutofit fontScale="93000"/>
          </a:bodyPr>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épisodes dépressifs caractérisés d’intensité légère ou modérée</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ne correspondant pas aux épisodes dépressifs caractérisés DSMIV</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isolés</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e durée de l’épisode inférieure à 15 jou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rocédure</a:t>
            </a:r>
            <a:endParaRPr b="0" lang="en-US" sz="4400" spc="-1" strike="noStrike">
              <a:solidFill>
                <a:srgbClr val="04617b"/>
              </a:solidFill>
              <a:latin typeface="Calibri"/>
            </a:endParaRPr>
          </a:p>
        </p:txBody>
      </p:sp>
      <p:sp>
        <p:nvSpPr>
          <p:cNvPr id="157" name="PlaceHolder 2"/>
          <p:cNvSpPr>
            <a:spLocks noGrp="1"/>
          </p:cNvSpPr>
          <p:nvPr>
            <p:ph/>
          </p:nvPr>
        </p:nvSpPr>
        <p:spPr>
          <a:xfrm>
            <a:off x="685800" y="1980720"/>
            <a:ext cx="7772400" cy="316404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hez l’enfant, l’adolescent,  le traitement de première intention d’un état dépressif est PSYCHOTHERAPIQU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pendant le recours à un médicament antidépresseur en première intention peut se justifier dans les épisodes dépressifs caractérisés d’intensité sévè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53760" y="611280"/>
            <a:ext cx="786276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Traitement pharmacologique de la dépression chez l’enfant ou l’adolescent</a:t>
            </a:r>
            <a:endParaRPr b="0" lang="en-US" sz="3200" spc="-1" strike="noStrike">
              <a:solidFill>
                <a:srgbClr val="04617b"/>
              </a:solidFill>
              <a:latin typeface="Calibri"/>
            </a:endParaRPr>
          </a:p>
        </p:txBody>
      </p:sp>
      <p:sp>
        <p:nvSpPr>
          <p:cNvPr id="159" name="PlaceHolder 2"/>
          <p:cNvSpPr>
            <a:spLocks noGrp="1"/>
          </p:cNvSpPr>
          <p:nvPr>
            <p:ph/>
          </p:nvPr>
        </p:nvSpPr>
        <p:spPr>
          <a:xfrm>
            <a:off x="685800" y="1980720"/>
            <a:ext cx="7772400" cy="3846600"/>
          </a:xfrm>
          <a:prstGeom prst="rect">
            <a:avLst/>
          </a:prstGeom>
          <a:noFill/>
          <a:ln w="0">
            <a:noFill/>
          </a:ln>
        </p:spPr>
        <p:txBody>
          <a:bodyPr anchor="t">
            <a:normAutofit fontScale="99000"/>
          </a:bodyPr>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ccompagnement psychothérapiqu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étroit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cherche d’un comportement suicidaire, surtout en début de traitement</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isques d’effets indésirables, de surdosag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choix de l’antidépresseur doit prendre en compte le profil de sécurité d’emploi propre à chaque molé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922320"/>
            <a:ext cx="7772400" cy="376560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osologie:posologie minimale efficace en tenant compte du poids par rapport à l’adulte et de la réponse clinique en se référant aux AMM en vigueur dans l’indication de la dépression chez l’adult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urée: 6 mois à 1 an</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rrêt progressif sur plusieurs semaines </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 prévention des rechu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4617b"/>
                </a:solidFill>
                <a:latin typeface="Calibri"/>
              </a:rPr>
              <a:t>AFSSAPS Juin 2006</a:t>
            </a:r>
            <a:endParaRPr b="0" lang="en-US" sz="6600" spc="-1" strike="noStrike">
              <a:solidFill>
                <a:srgbClr val="04617b"/>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Utilisation de PROZAC dans le traitement de la dépression majeure chez l’enfant et l’adolescent   6 JUIN 2006</a:t>
            </a:r>
            <a:endParaRPr b="0" lang="en-US" sz="3600" spc="-1" strike="noStrike">
              <a:solidFill>
                <a:srgbClr val="04617b"/>
              </a:solidFill>
              <a:latin typeface="Calibri"/>
            </a:endParaRPr>
          </a:p>
        </p:txBody>
      </p:sp>
      <p:sp>
        <p:nvSpPr>
          <p:cNvPr id="164" name="PlaceHolder 2"/>
          <p:cNvSpPr>
            <a:spLocks noGrp="1"/>
          </p:cNvSpPr>
          <p:nvPr>
            <p:ph/>
          </p:nvPr>
        </p:nvSpPr>
        <p:spPr>
          <a:xfrm>
            <a:off x="685800" y="2440080"/>
            <a:ext cx="7772400" cy="30780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MEA Agence Européenne du Médicament   Extension de l’indication de Prozac* (fluoxétine) au traitement des épisodes dépressifs majeurs d’intensité modérée à sévère chez les enfants âgés de </a:t>
            </a:r>
            <a:r>
              <a:rPr b="0" lang="fr-FR" sz="2800" spc="-1" strike="noStrike">
                <a:solidFill>
                  <a:srgbClr val="ff3300"/>
                </a:solidFill>
                <a:latin typeface="Calibri"/>
              </a:rPr>
              <a:t>8 ans</a:t>
            </a:r>
            <a:r>
              <a:rPr b="0" lang="fr-FR" sz="2800" spc="-1" strike="noStrike">
                <a:solidFill>
                  <a:srgbClr val="0099ff"/>
                </a:solidFill>
                <a:latin typeface="Calibri"/>
              </a:rPr>
              <a:t> ou plus, pour lesquels un traitement de type psychothérapeutique n’est pas suffis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1371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bénéfice de l’utilisation de Prozac dans cette indication semble l’emporter sur les risques potentiels ; le laboratoire Lilly s’engage à réaliser des études complémentaires sur le profil de sécurité de Proza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0720"/>
            <a:ext cx="7772400" cy="41022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SSAPS   Agence de Sécurité Sanitaire des Produits de San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traitement de première intention de la dépression chez l’enfant et l’adolescent est la PSYCHOTHERAP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Un traitement médicamenteux ne peut être envisagé qu’en association avec une psychothérapie et doit être accompagné d’une surveillance étroite du pat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980720"/>
            <a:ext cx="7772400" cy="358956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zac doit être utilisé en association à un traitement psychothérapeutique chez les patients n’ayant pas répondu à 4 à 6 séances de psychothérapie seul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posologie initiale de Prozac doit être de 10 mg par jour et peut être augmentée jusqu’à 20 mg par jour après une à deux semaines de trai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0"/>
            <a:ext cx="7772400" cy="6880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n cas d’absence d’amélioration clinique après 9 semaines le traitement par Prozac doit être reconsidéré.</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s études complémentaires chez l’animal en termes de développement sexuel, de comportement émotionnel et de toxicité testiculaire devront être réalisées. Par ailleurs le laboratoire va mettre en place une surveillance spécifique de la sécurité d’emploi, en particulier du développement sexuel chez les enfants traité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prescripteurs et les parents doivent surveiller étroitement les enfants et les adolescents traités et rechercher tout comportement suicidaire, surtout en début de traitemen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FREQUENTE</a:t>
            </a:r>
            <a:endParaRPr b="0" lang="en-US" sz="4000" spc="-1" strike="noStrike">
              <a:solidFill>
                <a:srgbClr val="04617b"/>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ff"/>
                </a:solidFill>
                <a:latin typeface="Calibri"/>
              </a:rPr>
              <a:t>350  millions</a:t>
            </a:r>
            <a:r>
              <a:rPr b="0" lang="fr-FR" sz="2800" spc="-1" strike="noStrike">
                <a:solidFill>
                  <a:srgbClr val="0099ff"/>
                </a:solidFill>
                <a:latin typeface="Calibri"/>
              </a:rPr>
              <a:t> de déprimés dans le monde 2012</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prévalence sur la vie entière des états dépressifs majeurs est  élevée, estimée à 17,9% dans l’étude de JP LEPINE (France, 1987)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ommes: 10,7 %               Femmes:22,4%</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ALHERBE: « La garde qui veille aux barrières du Louvre n’en défend pas les ro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TADS</a:t>
            </a:r>
            <a:endParaRPr b="0" lang="en-US" sz="4400" spc="-1" strike="noStrike">
              <a:solidFill>
                <a:srgbClr val="04617b"/>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39 sujets âgés de 12 à 17 an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 semain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 TCC &gt; fluoxétine seule &gt; TCC seule &gt; placebo</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édicteurs de réponse: âge supérieur à 16 ans, sévérité des troub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JS MARCH, 20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Traitement de la dépression chez l’adolescent</a:t>
            </a:r>
            <a:endParaRPr b="0" lang="en-US" sz="4000" spc="-1" strike="noStrike">
              <a:solidFill>
                <a:srgbClr val="04617b"/>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ubles dépressifs d’intensité légère ou modérée: psychothérap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épression sévère ou ne répondant pas à la psychothérapie seule: antidépresseur à discut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SRS à préfér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minimale avant de juger de l’effet: 10 semaines ; au-delà augmentation de posolog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6 moi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 BAILLY, D PURPER-OUAKIL,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harmaco-épidémiologie</a:t>
            </a:r>
            <a:endParaRPr b="0" lang="en-US" sz="4400" spc="-1" strike="noStrike">
              <a:solidFill>
                <a:srgbClr val="04617b"/>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rance – taux de prescription des IR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0,5% enfant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2% adolescentes 18 an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1% adolescents 18 ans  E ACQUAVIVA,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épidémiologiques: relation inverse entre le nombre des suicides chez les adolescents et le taux de prescription des antidépresseurs sérotoninergiques                      HJ MOLLER, 20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apport bénéfices/risques</a:t>
            </a:r>
            <a:endParaRPr b="0" lang="en-US" sz="4400" spc="-1" strike="noStrike">
              <a:solidFill>
                <a:srgbClr val="04617b"/>
              </a:solidFill>
              <a:latin typeface="Calibri"/>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NT nombre de patients qu’il est nécessaire de traiter pour observer un effet thérapeutique ou indésirable                      D COHEN, 2010</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nfants et adolescents</a:t>
            </a:r>
            <a:endParaRPr b="0" lang="en-US" sz="2800" spc="-1" strike="noStrike">
              <a:solidFill>
                <a:srgbClr val="000000"/>
              </a:solidFill>
              <a:latin typeface="Calibri"/>
            </a:endParaRPr>
          </a:p>
        </p:txBody>
      </p:sp>
      <p:graphicFrame>
        <p:nvGraphicFramePr>
          <p:cNvPr id="177" name=""/>
          <p:cNvGraphicFramePr/>
          <p:nvPr/>
        </p:nvGraphicFramePr>
        <p:xfrm>
          <a:off x="4648320" y="1600200"/>
          <a:ext cx="4038480" cy="5021280"/>
        </p:xfrm>
        <a:graphic>
          <a:graphicData uri="http://schemas.openxmlformats.org/drawingml/2006/table">
            <a:tbl>
              <a:tblPr/>
              <a:tblGrid>
                <a:gridCol w="1076040"/>
                <a:gridCol w="1616400"/>
                <a:gridCol w="1346040"/>
              </a:tblGrid>
              <a:tr h="1635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ff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hérapeutiq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 I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Idéation suicidair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ou 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93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ep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o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 an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dépresseurs et risque suicidaire</a:t>
            </a:r>
            <a:br>
              <a:rPr sz="4000"/>
            </a:br>
            <a:r>
              <a:rPr b="0" lang="fr-FR" sz="2400" spc="-1" strike="noStrike">
                <a:solidFill>
                  <a:srgbClr val="04617b"/>
                </a:solidFill>
                <a:latin typeface="Calibri"/>
              </a:rPr>
              <a:t>E CORRUBLE 2010</a:t>
            </a:r>
            <a:endParaRPr b="0" lang="en-US" sz="2400" spc="-1" strike="noStrike">
              <a:solidFill>
                <a:srgbClr val="04617b"/>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a Food and Drug Administration  a émis des recommandations de prudence concernant l’utilisation des antidépresseur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impact de ces recommandations a été rapid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Une diminution de prescription des antidépresseurs a été constatée</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Et une ré augmentation du taux des suic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hymorégulateu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ithium 16 an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convulsivants Pas d’AMM pour le trouble bipolaire avant 15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psychotiques de seconde génération Prise de poid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sychostimulants: méthylphénidate: Trouble Déficit de l’Attention avec hyperactivité Enfant &gt;6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xiolytiques: benzodiazépines enfant&gt;6 ans  Prescription à contrôler chez l’adolescent</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6/18ans prescription des antipsychotiques (sur 3 ans)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L MENARD, 2014</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3" name="PlaceHolder 2"/>
          <p:cNvSpPr>
            <a:spLocks noGrp="1"/>
          </p:cNvSpPr>
          <p:nvPr>
            <p:ph/>
          </p:nvPr>
        </p:nvSpPr>
        <p:spPr>
          <a:xfrm>
            <a:off x="457200" y="1600200"/>
            <a:ext cx="8229600" cy="4525920"/>
          </a:xfrm>
          <a:prstGeom prst="rect">
            <a:avLst/>
          </a:prstGeom>
          <a:solidFill>
            <a:srgbClr val="66ff66"/>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escription d’un psychotrope chez l’enfant, l’adolescen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Pédopsychiatre</a:t>
            </a:r>
            <a:endParaRPr b="0" lang="en-US" sz="3200" spc="-1" strike="noStrike">
              <a:solidFill>
                <a:srgbClr val="000000"/>
              </a:solidFill>
              <a:latin typeface="Calibri"/>
            </a:endParaRPr>
          </a:p>
        </p:txBody>
      </p:sp>
      <p:sp>
        <p:nvSpPr>
          <p:cNvPr id="184" name="AutoShape 4"/>
          <p:cNvSpPr/>
          <p:nvPr/>
        </p:nvSpPr>
        <p:spPr>
          <a:xfrm>
            <a:off x="1042920" y="357336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SC01346"/>
          <p:cNvPicPr/>
          <p:nvPr/>
        </p:nvPicPr>
        <p:blipFill>
          <a:blip r:embed="rId1"/>
          <a:stretch/>
        </p:blipFill>
        <p:spPr>
          <a:xfrm>
            <a:off x="1908000" y="166680"/>
            <a:ext cx="5328000" cy="6513480"/>
          </a:xfrm>
          <a:prstGeom prst="rect">
            <a:avLst/>
          </a:prstGeom>
          <a:ln w="0">
            <a:noFill/>
          </a:ln>
        </p:spPr>
      </p:pic>
      <p:sp>
        <p:nvSpPr>
          <p:cNvPr id="186"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Femmes enceint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Grossesse </a:t>
            </a:r>
            <a:br>
              <a:rPr sz="4000"/>
            </a:br>
            <a:endParaRPr b="0" lang="en-US" sz="4000" spc="-1" strike="noStrike">
              <a:solidFill>
                <a:srgbClr val="04617b"/>
              </a:solidFill>
              <a:latin typeface="Calibri"/>
            </a:endParaRPr>
          </a:p>
        </p:txBody>
      </p:sp>
      <p:sp>
        <p:nvSpPr>
          <p:cNvPr id="189"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10%:  symptôm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 majeurs peu fréquents: dans la plupart des cas amélioration avant l’accouchem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révalence des troubles dépressifs 18,4% et troubles dépressifs majeurs 12,7%        BN GAYNES, 2005</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Dépression maternelle non traité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auvais suivi, abus de substances, plus faible prise de poid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suicid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naissance prématurée, poids plus faible de naissance, complications obstétrica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oindre qualité des soins à l’enfant, troubles de l’attachement, retard de développement de l’enfant</a:t>
            </a:r>
            <a:endParaRPr b="0" lang="en-US" sz="16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 dépressions du post-partum</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anxieux fréquents</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Antécédents de troubles psychiatriqu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e l’humeu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Justification d’un traitement psychotrope</a:t>
            </a:r>
            <a:endParaRPr b="0" lang="en-US" sz="4000" spc="-1" strike="noStrike">
              <a:solidFill>
                <a:srgbClr val="04617b"/>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sévérité des symptômes compromet la vie de la mère et/ou la vie, le développement de l’enfa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écédents psychiatriques avec échecs d’essais antérieurs d’arrêts du traiteme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4 situations American College of Obstetricians and Gynecologist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xistence d’un trouble bipolai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psycho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suicidaires ou hétéroagressives envers l’enf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dépressi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4617b"/>
                </a:solidFill>
                <a:latin typeface="Calibri"/>
              </a:rPr>
              <a:t>LA DEPRESSION EST UNE MALADIE DANGEREUSE</a:t>
            </a:r>
            <a:endParaRPr b="0" lang="en-US" sz="4000" spc="-1" strike="noStrike">
              <a:solidFill>
                <a:srgbClr val="04617b"/>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TOUT PATIENT DEPRIME PEUT MOURIR PAR SUICIDE .  L’ ATTRAIT DE LA MORT EST UNE CONSTANTE DE LA CONSTELLATION DEPRESSIVE » Pr H LOO</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France: 11000 décès par suicide chaque année en Franc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50 à 70 % imputables à un trouble de l’humeu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nformation</a:t>
            </a:r>
            <a:endParaRPr b="0" lang="en-US" sz="4400" spc="-1" strike="noStrike">
              <a:solidFill>
                <a:srgbClr val="04617b"/>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e la femme enceinte, de la famill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ise de décision :la patiente, le médecin généraliste, le médecin de pharmacovigilance, l’obstétricien, le psychia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 pratique</a:t>
            </a:r>
            <a:endParaRPr b="0" lang="en-US" sz="4400" spc="-1" strike="noStrike">
              <a:solidFill>
                <a:srgbClr val="04617b"/>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onction de la gravité du tableau cliniqu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lectroconvulsivothérapi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onothérapie: médicaments les plus anciens</a:t>
            </a:r>
            <a:endParaRPr b="0" lang="en-US" sz="3200" spc="-1" strike="noStrike">
              <a:solidFill>
                <a:srgbClr val="000000"/>
              </a:solidFill>
              <a:latin typeface="Calibri"/>
            </a:endParaRPr>
          </a:p>
        </p:txBody>
      </p:sp>
      <p:sp>
        <p:nvSpPr>
          <p:cNvPr id="196" name="Text Box 4"/>
          <p:cNvSpPr/>
          <p:nvPr/>
        </p:nvSpPr>
        <p:spPr>
          <a:xfrm>
            <a:off x="287280" y="5032440"/>
            <a:ext cx="62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SA 200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 des femmes ont pris un antidépresse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un moment de leur grossesse WO COOPER,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dépresseurs et avortements spontanés</a:t>
            </a:r>
            <a:endParaRPr b="0" lang="en-US" sz="4000" spc="-1" strike="noStrike">
              <a:solidFill>
                <a:srgbClr val="04617b"/>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ta-analyse  ME HEMELS, 2005</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3567 ca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aux d’avortements spontané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4% femmes traitées par antidépress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8,7% des femmes non exposé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Risque tératogène</a:t>
            </a:r>
            <a:endParaRPr b="0" lang="en-US" sz="4400" spc="-1" strike="noStrike">
              <a:solidFill>
                <a:srgbClr val="04617b"/>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ecensement des études par A UDECHUKU 2010</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is méta-analyses: pas de risque majoré de malformations cardiaques – exposition au premier trimestr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 EINARSON, 2005</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l O’BRIEN, 2008</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 RAHIMI, 2006</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Une méta-analyse  de B BAR-OZ, 2007 rapporte une association entre l’exposition à la paroxétine et une malformation cardiaque et également une malformation congénitale en géné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écanismes?</a:t>
            </a:r>
            <a:endParaRPr b="0" lang="en-US" sz="4400" spc="-1" strike="noStrike">
              <a:solidFill>
                <a:srgbClr val="04617b"/>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ntagonisme des folat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éficit des cellules de la crête neural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rturbation endocrinienn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tress oxydatif </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Étiologie  vasculair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ératogenèse médiée par un récepteur ou une enzyme spécifiqu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HJ van GELDER,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3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tidépresseurs tricycliques</a:t>
            </a:r>
            <a:endParaRPr b="0" lang="en-US" sz="3200" spc="-1" strike="noStrike">
              <a:solidFill>
                <a:srgbClr val="04617b"/>
              </a:solidFill>
              <a:latin typeface="Calibri"/>
            </a:endParaRPr>
          </a:p>
        </p:txBody>
      </p:sp>
      <p:sp>
        <p:nvSpPr>
          <p:cNvPr id="204"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uses études de tératogenès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1996 ALTSHULER et COHEN : 400000 naissances avec 414 cas d’exposition aux tricycliques lors du premier trimestre: pas d’augmentation apparente du risque malformatif</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0 ARNON; étude de l’ensemble des données de la littérature; 734 cas de grossesse avec antidépresseurs au cous du premier trimestre: pas d’augmentation des taux de malformations par rapport à la population générale mais problème du syndrome périnatal</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2 SIMON: 209 enfants exposés aux tricycliques pendant la période fœtale: pas de différences avec le groupe témo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BA KALLEN, 2004: augmentation des malformations cardiaques congéni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R :1,77  IC: 95%: 1,07-2,91</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 REIS, 2010 (1208 femmes traitées par imipraminiques): risque majoré de malformations en génér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a:t>
            </a:r>
            <a:endParaRPr b="0" lang="en-US" sz="4400" spc="-1" strike="noStrike">
              <a:solidFill>
                <a:srgbClr val="04617b"/>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onnées concernant surtout la fluoxét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Nombreuses études  qui considèrent les IRSS en tant que group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s de lien évident entre la prise de la molécule et un risque malformatif</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une étude prospective a montré un risque augmenté de malformations cardiaques          P MERLOB, 2009</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alyse des registres (Danemark): plus grande fréquence  d’anomalies septales avec les IRSS  LH PEDERSEN, 2008</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 Différentes molécules</a:t>
            </a:r>
            <a:endParaRPr b="0" lang="en-US" sz="4400" spc="-1" strike="noStrike">
              <a:solidFill>
                <a:srgbClr val="04617b"/>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Résultats contradictoir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luoxétin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roxétine  </a:t>
            </a:r>
            <a:r>
              <a:rPr b="0" lang="fr-FR" sz="2000" spc="-1" strike="noStrike">
                <a:solidFill>
                  <a:srgbClr val="0099ff"/>
                </a:solidFill>
                <a:latin typeface="Calibri"/>
              </a:rPr>
              <a:t>paroxétine et grossesse: études récentes en faveur d’une augmentation du risque spécifique de malformations cardiaques: 2% versus 1% dans la population générale B  BAR-OZ, 2007 // KE WURST, 2010 //C LOUIK, 2007</a:t>
            </a:r>
            <a:endParaRPr b="0" lang="en-US" sz="20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      </a:t>
            </a:r>
            <a:r>
              <a:rPr b="0" lang="fr-FR" sz="2600" spc="-1" strike="noStrike">
                <a:solidFill>
                  <a:srgbClr val="0099ff"/>
                </a:solidFill>
                <a:latin typeface="Calibri"/>
              </a:rPr>
              <a:t>Cardiogenèse: 21 ème au 50</a:t>
            </a:r>
            <a:r>
              <a:rPr b="0" lang="fr-FR" sz="2700" spc="-1" strike="noStrike" baseline="30000">
                <a:solidFill>
                  <a:srgbClr val="0099ff"/>
                </a:solidFill>
                <a:latin typeface="Calibri"/>
              </a:rPr>
              <a:t>ème</a:t>
            </a:r>
            <a:r>
              <a:rPr b="0" lang="fr-FR" sz="2600" spc="-1" strike="noStrike">
                <a:solidFill>
                  <a:srgbClr val="0099ff"/>
                </a:solidFill>
                <a:latin typeface="Calibri"/>
              </a:rPr>
              <a:t> jour Si exposition réaliser une échographi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Sertralin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Fluvoxamine </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lformations cardiaques essentiellement</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is aussi: anencéphalies…S ALWAN, 2007</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ge gestationnel et Poids de naissance</a:t>
            </a:r>
            <a:endParaRPr b="0" lang="en-US" sz="4000" spc="-1" strike="noStrike">
              <a:solidFill>
                <a:srgbClr val="04617b"/>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ous antidépresseurs: dans 8 études sur 23 la prescription d’antidépresseurs a été associée à une diminution du poids de naissance  A UDECHUKU, 2010</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réquence plus grande des accouchements prématurés CHAMBERS 1996 / JO BERLE,20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tude de 267 grossesses exposées aux IRS: 97 à la paroxétine, 147 à la fluoxétine, 26 à la fluvoxamine: l’âge gestationnel, le poids de naissance, le score d’APGAR sont plus faibles que dans la population non exposée SIMON 200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dd9"/>
                </a:solidFill>
                <a:latin typeface="Calibri"/>
              </a:rPr>
              <a:t>Suicide</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106" name="PlaceHolder 2"/>
          <p:cNvSpPr>
            <a:spLocks noGrp="1"/>
          </p:cNvSpPr>
          <p:nvPr>
            <p:ph/>
          </p:nvPr>
        </p:nvSpPr>
        <p:spPr>
          <a:xfrm>
            <a:off x="457200" y="1700280"/>
            <a:ext cx="8229600" cy="4425840"/>
          </a:xfrm>
          <a:prstGeom prst="rect">
            <a:avLst/>
          </a:prstGeom>
          <a:noFill/>
          <a:ln w="9360">
            <a:solidFill>
              <a:srgbClr val="dbf5f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En France, chaque jour: 32 personnes  se donnent la mort dont 7 jeunes de 15 à 35 ans</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Dans le monde 1 mort par suicide toutes les 40 secon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Syndrome néonatal</a:t>
            </a:r>
            <a:endParaRPr b="0" lang="en-US" sz="4400" spc="-1" strike="noStrike">
              <a:solidFill>
                <a:srgbClr val="04617b"/>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S syndrome néonatal identique à celui observé avec les antidépresseurs tricycliques ELENFANT 2000, BA KALLEN, 2004</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 UDECHUKU, 2010 revue de la littérature: risque augmenté chez les enfants de mère exposée: convulsions néonatales, détresses respiratoires, score d’Apgar plus fai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rome néonatal / effets anticholinergiques des antidépresseurs</a:t>
            </a:r>
            <a:endParaRPr b="0" lang="en-US" sz="3600" spc="-1" strike="noStrike">
              <a:solidFill>
                <a:srgbClr val="04617b"/>
              </a:solidFill>
              <a:latin typeface="Calibri"/>
            </a:endParaRPr>
          </a:p>
        </p:txBody>
      </p:sp>
      <p:sp>
        <p:nvSpPr>
          <p:cNvPr id="21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pné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eu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achy-arythm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empérature instabl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emblement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vulsion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gitation motric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tresse respiratoir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étention urinair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ton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ossibilité d’iléus paralytiqu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but quelques heures après la naissance ; régression en 4 à 10 j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yndrome néonatal présent lors de l’utilisation des antidépresseurs au dernier trimestre KA LATTIMORE, 2005</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iminuer la posologie des antidépresseurs  avant l’accouch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Développement à long terme</a:t>
            </a:r>
            <a:endParaRPr b="0" lang="en-US" sz="4400" spc="-1" strike="noStrike">
              <a:solidFill>
                <a:srgbClr val="04617b"/>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idépresseurs tricycliques 1996 ALTSHULER Suivi d’enfants exposés jusqu’à l’âge de 3 ans: pas d’anomalies du comportement ni de retard psychomoteur</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dépresseurs : impossible de dire si la durée de l’exposition à un antidépresseur a un impact sur le développement de l’enfant  Revue de la littérature de 1973 à 2010            S GENTILE, 201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Chez la femme enceinte</a:t>
            </a:r>
            <a:endParaRPr b="0" lang="en-US" sz="4400" spc="-1" strike="noStrike">
              <a:solidFill>
                <a:srgbClr val="04617b"/>
              </a:solidFill>
              <a:latin typeface="Calibri"/>
            </a:endParaRPr>
          </a:p>
        </p:txBody>
      </p:sp>
      <p:sp>
        <p:nvSpPr>
          <p:cNvPr id="22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ntidépresseurs tricycliques </a:t>
            </a:r>
            <a:r>
              <a:rPr b="0" lang="fr-FR" sz="1600" spc="-1" strike="noStrike">
                <a:solidFill>
                  <a:srgbClr val="0099ff"/>
                </a:solidFill>
                <a:latin typeface="Calibri"/>
              </a:rPr>
              <a:t>Possibilités d’appréciations des concentrations plasmatiques pour amitriptyline, clomipramine, imipramine</a:t>
            </a:r>
            <a:endParaRPr b="0" lang="en-US" sz="16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 monothérapi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rrêt ou diminution des doses 15 jours avant l’accouchement afin de diminuer l’intensité du syndrome néonatal</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 surveiller le bilan de coagulation et le risque d’accouchement prématuré</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 pour la femme enceinte: nausées, vomissements, constipation, prise de poids excessive…. Risque augmenté d’hypertension artérielle (IRSS, premier trimestr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ugmentation  du risque de saignement par perturbations de l’hémostase  ARNON 2000</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llaitement</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mipraminiques: taux indétectables chez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pas de symptômes cliniques chez les enfants S GENTILE,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Citalopram: concentrations plasmatique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aroxétine: concentration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ertraline: jeter le lait entre 8 et 9 heures après la prise ZN STOWE, 2003</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llaitement maternel recommandé d’une manière générale chez la femme non exposée 6 mois  OM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apport bénéfices/risques de ne pas traiter la mère ou de ne pas allaiter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i le bébé a été exposé à l’antidépresseur pendant la grossesse, il ne semble pas nécessaire d’arrêter ce traitement pendant l’allaitement   JL PAYNE,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spects médicolégaux</a:t>
            </a:r>
            <a:endParaRPr b="0" lang="en-US" sz="4400" spc="-1" strike="noStrike">
              <a:solidFill>
                <a:srgbClr val="04617b"/>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s délivrées aux patientes et à leur famill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e la prescription au cours de la grossess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prénatal</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 du malad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entement libre et éclairé: patiente, personne de confianc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euve de l’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t>
            </a:r>
            <a:r>
              <a:rPr b="0" lang="fr-FR" sz="3200" spc="-1" strike="noStrike">
                <a:solidFill>
                  <a:srgbClr val="0099ff"/>
                </a:solidFill>
                <a:latin typeface="Calibri"/>
              </a:rPr>
              <a:t>Accident médical et aléa thérapeutiqu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demnisation au titre de la solidarité nationale si les régimes de responsabilité existants ne sont pas applicables (responsabilité pour faute, responsabilité objective des producteurs de produits, obligation de résultats des établissements en matière d’infections nosocomial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chance, préjudice de naissanc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 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RECHUTES ET RECIDIVES</a:t>
            </a:r>
            <a:endParaRPr b="0" lang="en-US" sz="4000" spc="-1" strike="noStrike">
              <a:solidFill>
                <a:srgbClr val="04617b"/>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maladie dépressive a une évolution plus sévère qu’on ne l’a longtemps pensé: nombre élevé de rechutes, chronicisation, impact sérieux sur la qualité de vie personnelle et familiale, poids élevé du retentissement médico-économique, risque de suicide.               Pr Th LEMPERIERE 1996</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 est une affection qui peut facilement récidiv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Calibri"/>
              </a:rPr>
              <a:t>15 à 20% seulement des patients ne présentent qu’un ou deux états dépressif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hymorégulateurs</a:t>
            </a:r>
            <a:endParaRPr b="0" lang="en-US" sz="4400" spc="-1" strike="noStrike">
              <a:solidFill>
                <a:srgbClr val="04617b"/>
              </a:solidFill>
              <a:latin typeface="Calibri"/>
            </a:endParaRPr>
          </a:p>
        </p:txBody>
      </p:sp>
      <p:sp>
        <p:nvSpPr>
          <p:cNvPr id="23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e-indications: valpromide, divalproate de sodium, carbamazépine  Tératogénèse: anomalies de fermeture du tube neural</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ls de lithium  ???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malformatif réel, mais faible, du lithium touchant essentiellement le cœur et les gros vaisseaux</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hez le nouveau-né de mère traitée: rapports de cas = hypotonie, hypothermie, difficultés de succion</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aitement recommandé dans les psychoses du post partum  </a:t>
            </a:r>
            <a:r>
              <a:rPr b="0" lang="fr-FR" sz="2400" spc="-1" strike="noStrike">
                <a:solidFill>
                  <a:srgbClr val="0099ff"/>
                </a:solidFill>
                <a:latin typeface="Calibri"/>
              </a:rPr>
              <a:t>V BERGINK, 20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f6fc6"/>
                </a:solidFill>
                <a:latin typeface="Calibri"/>
              </a:rPr>
              <a:t>Femme en âge de procréer</a:t>
            </a:r>
            <a:endParaRPr b="0" lang="en-US" sz="4000" spc="-1" strike="noStrike">
              <a:solidFill>
                <a:srgbClr val="04617b"/>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e prescrire qu’en cas d’inefficacité ou d’intolérance aux autre traitements</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formation contraception nécessair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pliquer les risques potentiels associés à l’utilisation de valproate pendant une grossess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Brochure d’information à remettre à la patiente et signature du formulaire d’accord de soins Conserver un exemplaire signé dans le dossier </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mander à la patiente de vous consulter si elle envisage une grossesse ou si elle pense être enceint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Benzodiazépines</a:t>
            </a:r>
            <a:endParaRPr b="0" lang="en-US" sz="4400" spc="-1" strike="noStrike">
              <a:solidFill>
                <a:srgbClr val="04617b"/>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 risque tératogène a été évoqué mais non confirmé par les études épidémiologiqu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premier trimestre ?</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troisième trimestre:  possibilité de survenue à la naissance d’hypotonie, de détresse respiratoire chez les nouveaux nés , risque de syndrome de sevr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ntipsychotiques</a:t>
            </a:r>
            <a:endParaRPr b="0" lang="en-US" sz="4400" spc="-1" strike="noStrike">
              <a:solidFill>
                <a:srgbClr val="04617b"/>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ff"/>
                </a:solidFill>
                <a:uFillTx/>
                <a:latin typeface="Calibri"/>
              </a:rPr>
              <a:t>Butyrophénones</a:t>
            </a:r>
            <a:r>
              <a:rPr b="0" lang="fr-FR" sz="3200" spc="-1" strike="noStrike">
                <a:solidFill>
                  <a:srgbClr val="0099ff"/>
                </a:solidFill>
                <a:latin typeface="Calibri"/>
              </a:rPr>
              <a:t> – halopéridol</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ffet tératogène chez l’animal, non mis en évidence dans l’espèce humaine</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ucune donnée sur le retentissement cérébral fœtal </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imiter les durées de prescription</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urveillance du nouveau-né: troubles neurologiques, retard à l’émission du méconi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ff"/>
                </a:solidFill>
                <a:uFillTx/>
                <a:latin typeface="Calibri"/>
              </a:rPr>
              <a:t>Phénothiazines</a:t>
            </a:r>
            <a:r>
              <a:rPr b="0" lang="fr-FR" sz="2800" spc="-1" strike="noStrike">
                <a:solidFill>
                  <a:srgbClr val="0099ff"/>
                </a:solidFill>
                <a:latin typeface="Calibri"/>
              </a:rPr>
              <a:t>  -chlorpromaz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tératogène chez l’animal, résultats contradictoires des études dans l’espèce huma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miter les durées de prescription, diminuer les posologies en fin de grosses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1996 Méta-analyse de LL ALTSHULER et            L COHEN: probable augmentation du risque tératogène de 0,4% en présence de phénothiazines.  Risque tératogène de la population générale =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ntipsychotiques de seconde génératio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core peu de donné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bénéfices potentiels attendus chez la femme enceinte justifient-ils les risques fœtaux potenti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u syndrome métabolique, du risque de diabè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grossesses Quebec 2014</a:t>
            </a:r>
            <a:endParaRPr b="0" lang="en-US" sz="4400" spc="-1" strike="noStrike">
              <a:solidFill>
                <a:srgbClr val="04617b"/>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97 680 grossess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56% des femmes utilisent des médicaments au cours de leur grossess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antibio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3% antiémé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7% AIN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 BERARD,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u de molécules sont tératogènes ; noter </a:t>
            </a:r>
            <a:r>
              <a:rPr b="0" lang="fr-FR" sz="3200" spc="-1" strike="noStrike">
                <a:solidFill>
                  <a:srgbClr val="ff0000"/>
                </a:solidFill>
                <a:latin typeface="Calibri"/>
              </a:rPr>
              <a:t>acide valproïque, </a:t>
            </a:r>
            <a:r>
              <a:rPr b="0" lang="fr-FR" sz="3200" spc="-1" strike="noStrike">
                <a:solidFill>
                  <a:srgbClr val="009dd9"/>
                </a:solidFill>
                <a:latin typeface="Calibri"/>
              </a:rPr>
              <a:t>carbamazépine, lithium</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us les psychotropes sont susceptibles d’entraîner des effets foetotoxiques et des manifestations néona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aux syndromes d’imprégnation</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à l’arrêt de l’exposition aux médicaments  </a:t>
            </a:r>
            <a:r>
              <a:rPr b="0" lang="fr-FR" sz="2000" spc="-1" strike="noStrike">
                <a:solidFill>
                  <a:srgbClr val="009dd9"/>
                </a:solidFill>
                <a:latin typeface="Calibri"/>
              </a:rPr>
              <a:t>P BOULO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5992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6fc6"/>
                </a:solidFill>
                <a:latin typeface="Calibri"/>
              </a:rPr>
              <a:t>Effets des IMAO et des antidépresseurs tricycliques sur la grossesse, la période néonatale et l’allaitement  C BASCOUL, 2015</a:t>
            </a:r>
            <a:endParaRPr b="0" lang="en-US" sz="2400" spc="-1" strike="noStrike">
              <a:solidFill>
                <a:srgbClr val="04617b"/>
              </a:solidFill>
              <a:latin typeface="Calibri"/>
            </a:endParaRPr>
          </a:p>
        </p:txBody>
      </p:sp>
      <p:pic>
        <p:nvPicPr>
          <p:cNvPr id="250" name="Espace réservé du contenu 3" descr="1-s2.0-S0755498214006095-gr1.jpg"/>
          <p:cNvPicPr/>
          <p:nvPr/>
        </p:nvPicPr>
        <p:blipFill>
          <a:blip r:embed="rId1"/>
          <a:srcRect l="0" t="-2782" r="0" b="-27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IRS, IRSNA et autres antidépresseurs</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2" name="Espace réservé du contenu 3" descr="1-s2.0-S0755498214006095-gr2.jpg"/>
          <p:cNvPicPr/>
          <p:nvPr/>
        </p:nvPicPr>
        <p:blipFill>
          <a:blip r:embed="rId1"/>
          <a:srcRect l="-17664" t="0" r="-1766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épression est une maladie grave</a:t>
            </a:r>
            <a:endParaRPr b="0" lang="en-US" sz="4000" spc="-1" strike="noStrike">
              <a:solidFill>
                <a:srgbClr val="04617b"/>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FFRANCE PSYCHIQ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ymptômes     - psych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psychomot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soma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tensité maximale le mat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benzodiazépines  C BASCOUL, 2015</a:t>
            </a:r>
            <a:endParaRPr b="0" lang="en-US" sz="2800" spc="-1" strike="noStrike">
              <a:solidFill>
                <a:srgbClr val="04617b"/>
              </a:solidFill>
              <a:latin typeface="Calibri"/>
            </a:endParaRPr>
          </a:p>
        </p:txBody>
      </p:sp>
      <p:pic>
        <p:nvPicPr>
          <p:cNvPr id="254" name="Espace réservé du contenu 3" descr="1-s2.0-S0755498214006095-gr3.jpg"/>
          <p:cNvPicPr/>
          <p:nvPr/>
        </p:nvPicPr>
        <p:blipFill>
          <a:blip r:embed="rId1"/>
          <a:srcRect l="0" t="-31390" r="0" b="-3139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Hypnotiques, antihistaminiques et autres anxiolytiques  C BASCOUL, 2015</a:t>
            </a:r>
            <a:endParaRPr b="0" lang="en-US" sz="2800" spc="-1" strike="noStrike">
              <a:solidFill>
                <a:srgbClr val="04617b"/>
              </a:solidFill>
              <a:latin typeface="Calibri"/>
            </a:endParaRPr>
          </a:p>
        </p:txBody>
      </p:sp>
      <p:pic>
        <p:nvPicPr>
          <p:cNvPr id="256" name="Espace réservé du contenu 3" descr="1-s2.0-S0755498214006095-gr4.jpg"/>
          <p:cNvPicPr/>
          <p:nvPr/>
        </p:nvPicPr>
        <p:blipFill>
          <a:blip r:embed="rId1"/>
          <a:srcRect l="-2000" t="0" r="-20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première génération</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8" name="Espace réservé du contenu 3" descr="1-s2.0-S0755498214006095-gr5.jpg"/>
          <p:cNvPicPr/>
          <p:nvPr/>
        </p:nvPicPr>
        <p:blipFill>
          <a:blip r:embed="rId1"/>
          <a:srcRect l="0" t="-3062" r="0" b="-306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seconde génération </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60" name="Espace réservé du contenu 3" descr="1-s2.0-S0755498214006095-gr6.jpg"/>
          <p:cNvPicPr/>
          <p:nvPr/>
        </p:nvPicPr>
        <p:blipFill>
          <a:blip r:embed="rId1"/>
          <a:srcRect l="0" t="-15264" r="0" b="-1526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hymorégulateurs   C BASCOUL, 2015</a:t>
            </a:r>
            <a:endParaRPr b="0" lang="en-US" sz="2800" spc="-1" strike="noStrike">
              <a:solidFill>
                <a:srgbClr val="04617b"/>
              </a:solidFill>
              <a:latin typeface="Calibri"/>
            </a:endParaRPr>
          </a:p>
        </p:txBody>
      </p:sp>
      <p:pic>
        <p:nvPicPr>
          <p:cNvPr id="262" name="Espace réservé du contenu 3" descr="1-s2.0-S0755498214006095-gr7.jpg"/>
          <p:cNvPicPr/>
          <p:nvPr/>
        </p:nvPicPr>
        <p:blipFill>
          <a:blip r:embed="rId1"/>
          <a:srcRect l="0" t="-31056" r="0" b="-31056"/>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raitements de substitution   C BASCOUL, 2015</a:t>
            </a:r>
            <a:endParaRPr b="0" lang="en-US" sz="2800" spc="-1" strike="noStrike">
              <a:solidFill>
                <a:srgbClr val="04617b"/>
              </a:solidFill>
              <a:latin typeface="Calibri"/>
            </a:endParaRPr>
          </a:p>
        </p:txBody>
      </p:sp>
      <p:pic>
        <p:nvPicPr>
          <p:cNvPr id="264" name="Espace réservé du contenu 3" descr="1-s2.0-S0755498214006095-gr8.jpg"/>
          <p:cNvPicPr/>
          <p:nvPr/>
        </p:nvPicPr>
        <p:blipFill>
          <a:blip r:embed="rId1"/>
          <a:srcRect l="0" t="-70008" r="0" b="-7000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Text Box 4"/>
          <p:cNvSpPr/>
          <p:nvPr/>
        </p:nvSpPr>
        <p:spPr>
          <a:xfrm>
            <a:off x="1843560" y="2187720"/>
            <a:ext cx="382320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Arial"/>
              </a:rPr>
              <a:t>AUTOMEDICATION</a:t>
            </a:r>
            <a:endParaRPr b="0" lang="en-US" sz="3200" spc="-1" strike="noStrike">
              <a:solidFill>
                <a:srgbClr val="000000"/>
              </a:solidFill>
              <a:latin typeface="Arial"/>
            </a:endParaRPr>
          </a:p>
        </p:txBody>
      </p:sp>
      <p:sp>
        <p:nvSpPr>
          <p:cNvPr id="268" name="Text Box 5"/>
          <p:cNvSpPr/>
          <p:nvPr/>
        </p:nvSpPr>
        <p:spPr>
          <a:xfrm>
            <a:off x="1692360" y="4253040"/>
            <a:ext cx="8026200" cy="18003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90 % des femmes encein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s’automédiqu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80% prennent au moins un médica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en dehors des vitam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ERRAPEL</a:t>
            </a:r>
            <a:endParaRPr b="0" lang="en-US" sz="4400" spc="-1" strike="noStrike">
              <a:solidFill>
                <a:srgbClr val="04617b"/>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RAT Centre de Référence sur les Agents Tératogènes </a:t>
            </a:r>
            <a:endParaRPr b="0" lang="en-US" sz="2400" spc="-1" strike="noStrike">
              <a:solidFill>
                <a:srgbClr val="000000"/>
              </a:solidFill>
              <a:latin typeface="Calibri"/>
            </a:endParaRPr>
          </a:p>
          <a:p>
            <a:pPr marL="343080" indent="-343080">
              <a:lnSpc>
                <a:spcPct val="8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NTIS European Network Teratology Information Services       </a:t>
            </a:r>
            <a:r>
              <a:rPr b="0" lang="fr-FR" sz="2000" spc="-1" strike="noStrike">
                <a:solidFill>
                  <a:srgbClr val="009dd9"/>
                </a:solidFill>
                <a:latin typeface="Calibri"/>
              </a:rPr>
              <a:t>E ELEFANT, 2014</a:t>
            </a:r>
            <a:endParaRPr b="0" lang="en-US" sz="20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valuation des risques et  de la sécurité d’utilisation des médicaments chez la femme enceinte ou susceptible de le devenir</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Données prospectives   Centres Régionaux de PharmacoVigilance</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pporter des informations sur le profil de sécurité d’une exposition médicamenteuse chez la femme enceint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a:t>
            </a:r>
            <a:r>
              <a:rPr b="0" lang="fr-FR" sz="2000" spc="-1" strike="noStrike">
                <a:solidFill>
                  <a:srgbClr val="009dd9"/>
                </a:solidFill>
                <a:latin typeface="Calibri"/>
              </a:rPr>
              <a:t>T VIAL,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UROCAT European surveillance of congenital anomalies  B DORAY,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CPRD Clinical Practice Research Datalink  Le dossier médical de la mère est relié au dossier médical de l’enfant  R CHARLTON,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DSC01346"/>
          <p:cNvPicPr/>
          <p:nvPr/>
        </p:nvPicPr>
        <p:blipFill>
          <a:blip r:embed="rId1"/>
          <a:stretch/>
        </p:blipFill>
        <p:spPr>
          <a:xfrm>
            <a:off x="1908000" y="166680"/>
            <a:ext cx="5328000" cy="6513480"/>
          </a:xfrm>
          <a:prstGeom prst="rect">
            <a:avLst/>
          </a:prstGeom>
          <a:ln w="0">
            <a:noFill/>
          </a:ln>
        </p:spPr>
      </p:pic>
      <p:sp>
        <p:nvSpPr>
          <p:cNvPr id="27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Sujets âgé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UJET AGE  /  MEDICAMENTS</a:t>
            </a:r>
            <a:endParaRPr b="0" lang="en-US" sz="4400" spc="-1" strike="noStrike">
              <a:solidFill>
                <a:srgbClr val="04617b"/>
              </a:solidFill>
              <a:latin typeface="Calibri"/>
            </a:endParaRPr>
          </a:p>
        </p:txBody>
      </p:sp>
      <p:sp>
        <p:nvSpPr>
          <p:cNvPr id="275"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Sujets âgés/AFSSAP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75 a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65 ans en cas de poly-pathologi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Fréquence des prescriptions médicamenteu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jets âgés de plus de 65 ans= 16% de la population en 2001 mais consommation de 39% des médicaments prescrits en vill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une personne sur deux de plus de 70 ans consomme au moins un psychotrope ; 20% des 10 millions de personnes âgées consomment de manière chronique des anxiolytiques ou hypnotiqu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Iatrogéni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1" lang="fr-FR" sz="2000" spc="-1" strike="noStrike">
                <a:solidFill>
                  <a:srgbClr val="0099ff"/>
                </a:solidFill>
                <a:latin typeface="Calibri"/>
              </a:rPr>
              <a:t>les effets indésirables médicamenteux sont deux fois plus fréquents après 65 an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 BEGAUD, 2002</a:t>
            </a:r>
            <a:endParaRPr b="0" lang="en-US" sz="1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30 à 60% des effets indésirables des médicaments sont prévisibles et évitables  </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J ANKRI, 2002</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PSYCHIQUES</a:t>
            </a:r>
            <a:endParaRPr b="0" lang="en-US" sz="4400" spc="-1" strike="noStrike">
              <a:solidFill>
                <a:srgbClr val="04617b"/>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istesse pathologique – Sentiments de vide, d’anéantissement – Douleur morale – Idées de culpabilité, d’incurabilité – Ruminations</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minution du sentiment d’estime de soi</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 l’anticipation</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ifférence – Anesthésie affective – Désintérêt</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hédon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spoir                    Anxié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de mor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ff"/>
                </a:solidFill>
                <a:latin typeface="Calibri"/>
              </a:rPr>
              <a:t>SUJET AGE</a:t>
            </a:r>
            <a:endParaRPr b="0" lang="en-US" sz="3600" spc="-1" strike="noStrike">
              <a:solidFill>
                <a:srgbClr val="04617b"/>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PLUS FAIBLES des psychotrop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difications très progressives des posolog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NSIBILITE ACCRUE AUX EFFETS INDESIRAB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EX THERAPEUTIQUE DES THYMOREGULATEURS A LA BAI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daptations thérapeutiques</a:t>
            </a:r>
            <a:br>
              <a:rPr sz="3600"/>
            </a:br>
            <a:r>
              <a:rPr b="0" lang="fr-FR" sz="3600" spc="-1" strike="noStrike">
                <a:solidFill>
                  <a:srgbClr val="04617b"/>
                </a:solidFill>
                <a:latin typeface="Calibri"/>
              </a:rPr>
              <a:t>chez le sujet âgé souffrant de troubles bipolaires de l’humeur</a:t>
            </a:r>
            <a:endParaRPr b="0" lang="en-US" sz="3600" spc="-1" strike="noStrike">
              <a:solidFill>
                <a:srgbClr val="04617b"/>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à la maladi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pati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médic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à la maladie</a:t>
            </a:r>
            <a:endParaRPr b="0" lang="en-US" sz="4400" spc="-1" strike="noStrike">
              <a:solidFill>
                <a:srgbClr val="04617b"/>
              </a:solidFill>
              <a:latin typeface="Calibri"/>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ALADIE MANIACO-DEPRESSIVE</a:t>
            </a:r>
            <a:endParaRPr b="0" lang="en-US" sz="3200" spc="-1" strike="noStrike">
              <a:solidFill>
                <a:srgbClr val="04617b"/>
              </a:solidFill>
              <a:latin typeface="Calibri"/>
            </a:endParaRPr>
          </a:p>
        </p:txBody>
      </p:sp>
      <p:sp>
        <p:nvSpPr>
          <p:cNvPr id="283"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st une affection chronique de l’humeur qui se caractérise par des perturbations cycliques de l’humeur</a:t>
            </a:r>
            <a:endParaRPr b="0" lang="en-US" sz="32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 pronostic de récidive est inhérent au concept    même de maladie périodique.</a:t>
            </a:r>
            <a:endParaRPr b="0" lang="en-US" sz="2400" spc="-1" strike="noStrike">
              <a:solidFill>
                <a:srgbClr val="000000"/>
              </a:solidFill>
              <a:latin typeface="Calibri"/>
            </a:endParaRPr>
          </a:p>
          <a:p>
            <a:pPr marL="343080" indent="-343080">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l est classique d’admettre, depuis KRAEPELIN, qu’au long de l’évolution de la maladie, les accès augmentent de durée dans le même temps que la durée des intervalles libres va en diminuan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e 36"/>
          <p:cNvGrpSpPr/>
          <p:nvPr/>
        </p:nvGrpSpPr>
        <p:grpSpPr>
          <a:xfrm>
            <a:off x="498600" y="785880"/>
            <a:ext cx="8318520" cy="5723280"/>
            <a:chOff x="498600" y="785880"/>
            <a:chExt cx="8318520" cy="5723280"/>
          </a:xfrm>
        </p:grpSpPr>
        <p:pic>
          <p:nvPicPr>
            <p:cNvPr id="285" name="Graphique 1" descr=""/>
            <p:cNvPicPr/>
            <p:nvPr/>
          </p:nvPicPr>
          <p:blipFill>
            <a:blip r:embed="rId1"/>
            <a:stretch/>
          </p:blipFill>
          <p:spPr>
            <a:xfrm>
              <a:off x="498600" y="785880"/>
              <a:ext cx="8318520" cy="3840840"/>
            </a:xfrm>
            <a:prstGeom prst="rect">
              <a:avLst/>
            </a:prstGeom>
            <a:ln w="0">
              <a:noFill/>
            </a:ln>
          </p:spPr>
        </p:pic>
        <p:sp>
          <p:nvSpPr>
            <p:cNvPr id="286" name="ZoneTexte 2"/>
            <p:cNvSpPr/>
            <p:nvPr/>
          </p:nvSpPr>
          <p:spPr>
            <a:xfrm>
              <a:off x="1104840" y="4497120"/>
              <a:ext cx="962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uéris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7" name="ZoneTexte 3"/>
            <p:cNvSpPr/>
            <p:nvPr/>
          </p:nvSpPr>
          <p:spPr>
            <a:xfrm>
              <a:off x="2245680" y="4497120"/>
              <a:ext cx="10814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8" name="ZoneTexte 4"/>
            <p:cNvSpPr/>
            <p:nvPr/>
          </p:nvSpPr>
          <p:spPr>
            <a:xfrm>
              <a:off x="3533040" y="4497120"/>
              <a:ext cx="1121040" cy="201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9" name="ZoneTexte 5"/>
            <p:cNvSpPr/>
            <p:nvPr/>
          </p:nvSpPr>
          <p:spPr>
            <a:xfrm>
              <a:off x="4701960" y="4497120"/>
              <a:ext cx="1201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currences</a:t>
              </a:r>
              <a:endParaRPr b="0" lang="en-US" sz="1400" spc="-1" strike="noStrike">
                <a:solidFill>
                  <a:srgbClr val="000000"/>
                </a:solidFill>
                <a:latin typeface="Arial"/>
              </a:endParaRPr>
            </a:p>
          </p:txBody>
        </p:sp>
        <p:sp>
          <p:nvSpPr>
            <p:cNvPr id="290" name="ZoneTexte 6"/>
            <p:cNvSpPr/>
            <p:nvPr/>
          </p:nvSpPr>
          <p:spPr>
            <a:xfrm>
              <a:off x="5954760" y="4497120"/>
              <a:ext cx="1061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Chronic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uré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inim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 ans</a:t>
              </a:r>
              <a:endParaRPr b="0" lang="en-US" sz="1400" spc="-1" strike="noStrike">
                <a:solidFill>
                  <a:srgbClr val="000000"/>
                </a:solidFill>
                <a:latin typeface="Arial"/>
              </a:endParaRPr>
            </a:p>
          </p:txBody>
        </p:sp>
        <p:sp>
          <p:nvSpPr>
            <p:cNvPr id="291" name="ZoneTexte 7"/>
            <p:cNvSpPr/>
            <p:nvPr/>
          </p:nvSpPr>
          <p:spPr>
            <a:xfrm>
              <a:off x="7279200" y="44971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uicide</a:t>
              </a:r>
              <a:endParaRPr b="0" lang="en-US" sz="1400" spc="-1" strike="noStrike">
                <a:solidFill>
                  <a:srgbClr val="000000"/>
                </a:solidFill>
                <a:latin typeface="Arial"/>
              </a:endParaRPr>
            </a:p>
          </p:txBody>
        </p:sp>
        <p:sp>
          <p:nvSpPr>
            <p:cNvPr id="292" name="Connecteur droit 9"/>
            <p:cNvSpPr/>
            <p:nvPr/>
          </p:nvSpPr>
          <p:spPr>
            <a:xfrm flipH="1">
              <a:off x="1219680" y="1226520"/>
              <a:ext cx="1440" cy="321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Connecteur droit 10"/>
            <p:cNvSpPr/>
            <p:nvPr/>
          </p:nvSpPr>
          <p:spPr>
            <a:xfrm flipH="1" flipV="1">
              <a:off x="1221120" y="4437000"/>
              <a:ext cx="687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ZoneTexte 13"/>
            <p:cNvSpPr/>
            <p:nvPr/>
          </p:nvSpPr>
          <p:spPr>
            <a:xfrm>
              <a:off x="695520" y="1090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95" name="ZoneTexte 14"/>
            <p:cNvSpPr/>
            <p:nvPr/>
          </p:nvSpPr>
          <p:spPr>
            <a:xfrm>
              <a:off x="700200" y="1569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96" name="ZoneTexte 15"/>
            <p:cNvSpPr/>
            <p:nvPr/>
          </p:nvSpPr>
          <p:spPr>
            <a:xfrm>
              <a:off x="690480" y="2093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97" name="ZoneTexte 16"/>
            <p:cNvSpPr/>
            <p:nvPr/>
          </p:nvSpPr>
          <p:spPr>
            <a:xfrm>
              <a:off x="690480" y="2614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298" name="ZoneTexte 17"/>
            <p:cNvSpPr/>
            <p:nvPr/>
          </p:nvSpPr>
          <p:spPr>
            <a:xfrm>
              <a:off x="690480" y="31471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99" name="ZoneTexte 18"/>
            <p:cNvSpPr/>
            <p:nvPr/>
          </p:nvSpPr>
          <p:spPr>
            <a:xfrm>
              <a:off x="800640" y="3672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300" name="ZoneTexte 19"/>
            <p:cNvSpPr/>
            <p:nvPr/>
          </p:nvSpPr>
          <p:spPr>
            <a:xfrm>
              <a:off x="805320" y="4281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301" name="Connecteur droit 23"/>
            <p:cNvSpPr/>
            <p:nvPr/>
          </p:nvSpPr>
          <p:spPr>
            <a:xfrm>
              <a:off x="1075320" y="127584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Connecteur droit 24"/>
            <p:cNvSpPr/>
            <p:nvPr/>
          </p:nvSpPr>
          <p:spPr>
            <a:xfrm>
              <a:off x="1075320" y="1715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Connecteur droit 25"/>
            <p:cNvSpPr/>
            <p:nvPr/>
          </p:nvSpPr>
          <p:spPr>
            <a:xfrm>
              <a:off x="1075320" y="22474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Connecteur droit 26"/>
            <p:cNvSpPr/>
            <p:nvPr/>
          </p:nvSpPr>
          <p:spPr>
            <a:xfrm>
              <a:off x="1075320" y="27856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Connecteur droit 27"/>
            <p:cNvSpPr/>
            <p:nvPr/>
          </p:nvSpPr>
          <p:spPr>
            <a:xfrm>
              <a:off x="1075320" y="3290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Connecteur droit 28"/>
            <p:cNvSpPr/>
            <p:nvPr/>
          </p:nvSpPr>
          <p:spPr>
            <a:xfrm>
              <a:off x="1075320" y="3857400"/>
              <a:ext cx="14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29"/>
            <p:cNvSpPr/>
            <p:nvPr/>
          </p:nvSpPr>
          <p:spPr>
            <a:xfrm>
              <a:off x="1075320" y="444492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ZoneTexte 30"/>
            <p:cNvSpPr/>
            <p:nvPr/>
          </p:nvSpPr>
          <p:spPr>
            <a:xfrm>
              <a:off x="1371960" y="2233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6 %</a:t>
              </a:r>
              <a:endParaRPr b="0" lang="en-US" sz="1400" spc="-1" strike="noStrike">
                <a:solidFill>
                  <a:srgbClr val="000000"/>
                </a:solidFill>
                <a:latin typeface="Arial"/>
              </a:endParaRPr>
            </a:p>
          </p:txBody>
        </p:sp>
        <p:sp>
          <p:nvSpPr>
            <p:cNvPr id="309" name="ZoneTexte 31"/>
            <p:cNvSpPr/>
            <p:nvPr/>
          </p:nvSpPr>
          <p:spPr>
            <a:xfrm>
              <a:off x="2526120" y="122580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5,5 %</a:t>
              </a:r>
              <a:endParaRPr b="0" lang="en-US" sz="1400" spc="-1" strike="noStrike">
                <a:solidFill>
                  <a:srgbClr val="000000"/>
                </a:solidFill>
                <a:latin typeface="Arial"/>
              </a:endParaRPr>
            </a:p>
          </p:txBody>
        </p:sp>
        <p:sp>
          <p:nvSpPr>
            <p:cNvPr id="310" name="ZoneTexte 32"/>
            <p:cNvSpPr/>
            <p:nvPr/>
          </p:nvSpPr>
          <p:spPr>
            <a:xfrm>
              <a:off x="376020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sp>
          <p:nvSpPr>
            <p:cNvPr id="311" name="ZoneTexte 33"/>
            <p:cNvSpPr/>
            <p:nvPr/>
          </p:nvSpPr>
          <p:spPr>
            <a:xfrm>
              <a:off x="5028840" y="10998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7 %</a:t>
              </a:r>
              <a:endParaRPr b="0" lang="en-US" sz="1400" spc="-1" strike="noStrike">
                <a:solidFill>
                  <a:srgbClr val="000000"/>
                </a:solidFill>
                <a:latin typeface="Arial"/>
              </a:endParaRPr>
            </a:p>
          </p:txBody>
        </p:sp>
        <p:sp>
          <p:nvSpPr>
            <p:cNvPr id="312" name="ZoneTexte 34"/>
            <p:cNvSpPr/>
            <p:nvPr/>
          </p:nvSpPr>
          <p:spPr>
            <a:xfrm>
              <a:off x="6183000" y="22960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5,9 %</a:t>
              </a:r>
              <a:endParaRPr b="0" lang="en-US" sz="1400" spc="-1" strike="noStrike">
                <a:solidFill>
                  <a:srgbClr val="000000"/>
                </a:solidFill>
                <a:latin typeface="Arial"/>
              </a:endParaRPr>
            </a:p>
          </p:txBody>
        </p:sp>
        <p:sp>
          <p:nvSpPr>
            <p:cNvPr id="313" name="ZoneTexte 35"/>
            <p:cNvSpPr/>
            <p:nvPr/>
          </p:nvSpPr>
          <p:spPr>
            <a:xfrm>
              <a:off x="741708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grpSp>
      <p:sp>
        <p:nvSpPr>
          <p:cNvPr id="314" name="Titre 3"/>
          <p:cNvSpPr/>
          <p:nvPr/>
        </p:nvSpPr>
        <p:spPr>
          <a:xfrm>
            <a:off x="0" y="-4680"/>
            <a:ext cx="9144000" cy="714240"/>
          </a:xfrm>
          <a:prstGeom prst="rect">
            <a:avLst/>
          </a:prstGeom>
          <a:gradFill rotWithShape="0">
            <a:gsLst>
              <a:gs pos="0">
                <a:srgbClr val="ffffff"/>
              </a:gs>
              <a:gs pos="100000">
                <a:srgbClr val="edf3db"/>
              </a:gs>
            </a:gsLst>
            <a:lin ang="54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
          <p:cNvSpPr/>
          <p:nvPr/>
        </p:nvSpPr>
        <p:spPr>
          <a:xfrm>
            <a:off x="763560" y="9360"/>
            <a:ext cx="772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Etude de Zurich : devenir de 219 patients souffrant de troub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bipolaires.                D'après Angst et al. (2000)</a:t>
            </a:r>
            <a:endParaRPr b="0" lang="en-US" sz="2000" spc="-1" strike="noStrike">
              <a:solidFill>
                <a:srgbClr val="000000"/>
              </a:solidFill>
              <a:latin typeface="Arial"/>
            </a:endParaRPr>
          </a:p>
        </p:txBody>
      </p:sp>
      <p:sp>
        <p:nvSpPr>
          <p:cNvPr id="316" name="Titre 1"/>
          <p:cNvSpPr/>
          <p:nvPr/>
        </p:nvSpPr>
        <p:spPr>
          <a:xfrm>
            <a:off x="5219640" y="6550560"/>
            <a:ext cx="3924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6600"/>
                </a:solidFill>
                <a:latin typeface="Arial"/>
              </a:rPr>
              <a:t>P. Delamillieure – L'Encéphale, 2006 ; 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9dd9"/>
                </a:solidFill>
                <a:latin typeface="Calibri"/>
              </a:rPr>
              <a:t>Altération fonctionnelle résiduelle</a:t>
            </a:r>
            <a:endParaRPr b="0" lang="en-US" sz="3600" spc="-1" strike="noStrike">
              <a:solidFill>
                <a:srgbClr val="04617b"/>
              </a:solidFill>
              <a:latin typeface="Calibri"/>
            </a:endParaRPr>
          </a:p>
        </p:txBody>
      </p:sp>
      <p:sp>
        <p:nvSpPr>
          <p:cNvPr id="318" name="PlaceHolder 2"/>
          <p:cNvSpPr>
            <a:spLocks noGrp="1"/>
          </p:cNvSpPr>
          <p:nvPr>
            <p:ph/>
          </p:nvPr>
        </p:nvSpPr>
        <p:spPr>
          <a:xfrm>
            <a:off x="220680" y="1267920"/>
            <a:ext cx="492768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Facteurs associés à une altération fonctionnelle résiduelle en période d’euthymi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e élevé</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CD d’épisodes mixt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s d’épisodes</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cteurs associés à une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rémission  fonctionnell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une âg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9" name="Picture 4" descr=""/>
          <p:cNvPicPr/>
          <p:nvPr/>
        </p:nvPicPr>
        <p:blipFill>
          <a:blip r:embed="rId1"/>
          <a:stretch/>
        </p:blipFill>
        <p:spPr>
          <a:xfrm>
            <a:off x="5521320" y="1268280"/>
            <a:ext cx="2955960" cy="4525920"/>
          </a:xfrm>
          <a:prstGeom prst="rect">
            <a:avLst/>
          </a:prstGeom>
          <a:ln w="0">
            <a:noFill/>
          </a:ln>
        </p:spPr>
      </p:pic>
      <p:sp>
        <p:nvSpPr>
          <p:cNvPr id="320" name="Text Box 7"/>
          <p:cNvSpPr/>
          <p:nvPr/>
        </p:nvSpPr>
        <p:spPr>
          <a:xfrm>
            <a:off x="730080" y="6308640"/>
            <a:ext cx="643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9dd9"/>
                </a:solidFill>
                <a:latin typeface="Calibri"/>
                <a:ea typeface="Arial"/>
              </a:rPr>
              <a:t>*AR ROSA, Bipolar Dis, 2009 – **AP WINGO, Psych Res,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9ff"/>
                </a:solidFill>
                <a:latin typeface="Calibri"/>
              </a:rPr>
              <a:t>Une pathologie à risque</a:t>
            </a:r>
            <a:endParaRPr b="0" lang="en-US" sz="4400" spc="-1" strike="noStrike">
              <a:solidFill>
                <a:srgbClr val="04617b"/>
              </a:solidFill>
              <a:latin typeface="Calibri"/>
            </a:endParaRPr>
          </a:p>
        </p:txBody>
      </p:sp>
      <p:sp>
        <p:nvSpPr>
          <p:cNvPr id="322"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es comorbidités psychiatriques fréquent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 SAJATOVIC 2006: 4668 vétérans 70 ans+/- 7,2 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e substances= 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Syndrome de stress postraumatique=5,4%</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7%</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mences=4,5%</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BI GOLDSTEIN 2006: 1411 patients souffrant de troubles bipolaires (6%&gt;65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alcool=38,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ysthymie=7,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 panique=11,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ugmentation du risque suicidaire</a:t>
            </a:r>
            <a:r>
              <a:rPr b="0" lang="fr-FR" sz="2400" spc="-1" strike="noStrike">
                <a:solidFill>
                  <a:srgbClr val="0099ff"/>
                </a:solidFill>
                <a:latin typeface="Calibri"/>
              </a:rPr>
              <a:t>   </a:t>
            </a:r>
            <a:r>
              <a:rPr b="0" lang="fr-FR" sz="2000" spc="-1" strike="noStrike">
                <a:solidFill>
                  <a:srgbClr val="0099ff"/>
                </a:solidFill>
                <a:latin typeface="Calibri"/>
              </a:rPr>
              <a:t>JP OLIE, 199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au patient</a:t>
            </a:r>
            <a:endParaRPr b="0" lang="en-US" sz="4400" spc="-1" strike="noStrike">
              <a:solidFill>
                <a:srgbClr val="04617b"/>
              </a:solidFill>
              <a:latin typeface="Calibri"/>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Modifications physiologiques liées à l’âge</a:t>
            </a:r>
            <a:endParaRPr b="0" lang="en-US" sz="4000" spc="-1" strike="noStrike">
              <a:solidFill>
                <a:srgbClr val="04617b"/>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bsorption digestive diminuée</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tion de la motilité gastrique, du flux sanguin intestinal, de la surface muqueuse de l’intestin grêl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 </a:t>
            </a:r>
            <a:r>
              <a:rPr b="0" lang="fr-FR" sz="2000" spc="-1" strike="noStrike">
                <a:solidFill>
                  <a:srgbClr val="0f6fc6"/>
                </a:solidFill>
                <a:latin typeface="Calibri"/>
              </a:rPr>
              <a:t>-augmentation du PH gastrique</a:t>
            </a:r>
            <a:endParaRPr b="0" lang="en-US" sz="20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iminution des protéines plasmatiques</a:t>
            </a:r>
            <a:endParaRPr b="0" lang="en-US" sz="24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ébit sanguin</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é au niveau cardiaqu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peu modifié au niveau cérébral</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Métabolisme hépatique diminué:</a:t>
            </a:r>
            <a:r>
              <a:rPr b="0" lang="fr-FR" sz="2400" spc="-1" strike="noStrike">
                <a:solidFill>
                  <a:srgbClr val="000000"/>
                </a:solidFill>
                <a:latin typeface="Calibri"/>
              </a:rPr>
              <a:t> </a:t>
            </a:r>
            <a:r>
              <a:rPr b="0" lang="fr-FR" sz="2000" spc="-1" strike="noStrike">
                <a:solidFill>
                  <a:srgbClr val="0f6fc6"/>
                </a:solidFill>
                <a:latin typeface="Calibri"/>
              </a:rPr>
              <a:t>diminution du métabolisme oxydatif, du débit sanguin hépatique, de l’activité des microsomes</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Elimination rénale diminuée</a:t>
            </a:r>
            <a:r>
              <a:rPr b="0" lang="fr-FR" sz="2400" spc="-1" strike="noStrike">
                <a:solidFill>
                  <a:srgbClr val="000000"/>
                </a:solidFill>
                <a:latin typeface="Calibri"/>
              </a:rPr>
              <a:t>: </a:t>
            </a:r>
            <a:r>
              <a:rPr b="0" lang="fr-FR" sz="2000" spc="-1" strike="noStrike">
                <a:solidFill>
                  <a:srgbClr val="0f6fc6"/>
                </a:solidFill>
                <a:latin typeface="Calibri"/>
              </a:rPr>
              <a:t>diminution du flux sanguin rénal, fibrose glomérulaire, atrophie tubul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de la pharmacocinétique des médicaments</a:t>
            </a:r>
            <a:endParaRPr b="0" lang="en-US" sz="3600" spc="-1" strike="noStrike">
              <a:solidFill>
                <a:srgbClr val="04617b"/>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 du volume de distribution des médicaments</a:t>
            </a:r>
            <a:r>
              <a:rPr b="0" lang="fr-FR" sz="2800" spc="-1" strike="noStrike">
                <a:solidFill>
                  <a:srgbClr val="000000"/>
                </a:solidFill>
                <a:latin typeface="Calibri"/>
              </a:rPr>
              <a:t>: </a:t>
            </a:r>
            <a:r>
              <a:rPr b="0" lang="fr-FR" sz="2400" spc="-1" strike="noStrike">
                <a:solidFill>
                  <a:srgbClr val="0f6fc6"/>
                </a:solidFill>
                <a:latin typeface="Calibri"/>
              </a:rPr>
              <a:t>diminution de l’eau corporelle totale, du débit cardiaque, de la liaison aux protéines, augmentation des tissus lipidiques médicaments lipophiles stocké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concentrations plasmatiques</a:t>
            </a:r>
            <a:r>
              <a:rPr b="0" lang="fr-FR" sz="2800" spc="-1" strike="noStrike">
                <a:solidFill>
                  <a:srgbClr val="000000"/>
                </a:solidFill>
                <a:latin typeface="Calibri"/>
              </a:rPr>
              <a:t> </a:t>
            </a:r>
            <a:r>
              <a:rPr b="0" lang="fr-FR" sz="2800" spc="-1" strike="noStrike">
                <a:solidFill>
                  <a:srgbClr val="ff3300"/>
                </a:solidFill>
                <a:latin typeface="Calibri"/>
              </a:rPr>
              <a:t>médicamenteuses </a:t>
            </a:r>
            <a:r>
              <a:rPr b="0" lang="fr-FR" sz="2400" spc="-1" strike="noStrike">
                <a:solidFill>
                  <a:srgbClr val="0f6fc6"/>
                </a:solidFill>
                <a:latin typeface="Calibri"/>
              </a:rPr>
              <a:t>à l’état d’équilibre par ralentissement du métabolisme </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quantités de substance active</a:t>
            </a:r>
            <a:r>
              <a:rPr b="0" lang="fr-FR" sz="2800" spc="-1" strike="noStrike">
                <a:solidFill>
                  <a:srgbClr val="000000"/>
                </a:solidFill>
                <a:latin typeface="Calibri"/>
              </a:rPr>
              <a:t> </a:t>
            </a:r>
            <a:r>
              <a:rPr b="0" lang="fr-FR" sz="2400" spc="-1" strike="noStrike">
                <a:solidFill>
                  <a:srgbClr val="0f6fc6"/>
                </a:solidFill>
                <a:latin typeface="Calibri"/>
              </a:rPr>
              <a:t>par diminution de la liaison aux protéines plasmatique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 la demi-vie plasmatique</a:t>
            </a:r>
            <a:r>
              <a:rPr b="0" lang="fr-FR" sz="2800" spc="-1" strike="noStrike">
                <a:solidFill>
                  <a:srgbClr val="000000"/>
                </a:solidFill>
                <a:latin typeface="Calibri"/>
              </a:rPr>
              <a:t> </a:t>
            </a:r>
            <a:r>
              <a:rPr b="0" lang="fr-FR" sz="2400" spc="-1" strike="noStrike">
                <a:solidFill>
                  <a:srgbClr val="0f6fc6"/>
                </a:solidFill>
                <a:latin typeface="Calibri"/>
              </a:rPr>
              <a:t>des médicaments par diminution de l’élimination rén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3:15:36Z</dcterms:created>
  <dc:creator>Didier</dc:creator>
  <dc:description/>
  <dc:language>en-US</dc:language>
  <cp:lastModifiedBy>Bernard Bonin</cp:lastModifiedBy>
  <cp:lastPrinted>2010-06-10T10:09:57Z</cp:lastPrinted>
  <dcterms:modified xsi:type="dcterms:W3CDTF">2017-02-08T22:52:49Z</dcterms:modified>
  <cp:revision>214</cp:revision>
  <dc:subject/>
  <dc:title>Rémission et/ou intervalle libre</dc:title>
</cp:coreProperties>
</file>